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4AD3-321D-4DC0-8836-C1D392C23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BE51-CD77-4863-801E-EF7769B3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C406-EC93-4958-A721-7F5AF2AE0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7944-2C7B-49C8-BC76-136F8845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4C29-2DC7-4F5A-B3A9-542DD3A2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9FF2-7F75-4289-9353-7B1D0465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ABB6-248C-4FB2-B30A-BB020772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294E-36F0-4447-81E1-C6214416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3894-4B1F-4685-BBE2-6CAD8E01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0623-F860-41EF-8481-C3759AD1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FD5D-B25C-4A79-8622-407C9608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4751-61FB-46CD-AA58-267BBE61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D034-C23F-4F81-BD78-1D343F6B9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9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0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8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3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24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25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0"/>
            <a:ext cx="7772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4 Bit Manipulation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32560" y="36828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ift instructions: SHL/SAL, SHR, S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63440" y="776160"/>
          <a:ext cx="8559720" cy="149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440" y="776160"/>
                    <a:ext cx="8559720" cy="14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52280" y="2346480"/>
          <a:ext cx="2764080" cy="1574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346480"/>
                    <a:ext cx="2764080" cy="15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1980360" y="4005360"/>
            <a:ext cx="542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ift instructions: SHLD, SHRD (386+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0840" y="4421160"/>
          <a:ext cx="8935920" cy="1065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0840" y="4421160"/>
                    <a:ext cx="893592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52280" y="5553000"/>
          <a:ext cx="4322880" cy="12286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5553000"/>
                    <a:ext cx="432288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968200" y="2246400"/>
            <a:ext cx="574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s: initial value in AX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1110000000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3240" y="2784600"/>
            <a:ext cx="15904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04320" y="2743200"/>
            <a:ext cx="3280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X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1111000000010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019560" y="2590920"/>
            <a:ext cx="2286360" cy="228600"/>
            <a:chOff x="6019560" y="2590920"/>
            <a:chExt cx="2286360" cy="228600"/>
          </a:xfrm>
        </p:grpSpPr>
        <p:sp>
          <p:nvSpPr>
            <p:cNvPr id="56" name=""/>
            <p:cNvSpPr/>
            <p:nvPr/>
          </p:nvSpPr>
          <p:spPr>
            <a:xfrm flipH="1">
              <a:off x="8153280" y="259092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8000640" y="25909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848360" y="25909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7696080" y="259092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7543440" y="25909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7391160" y="25909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7238880" y="259092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7086240" y="25909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6933960" y="25909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6781680" y="259092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6629040" y="25909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476760" y="25909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324480" y="259092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6171840" y="25909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6019560" y="25909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656920" y="2514600"/>
            <a:ext cx="333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8305920" y="2666880"/>
            <a:ext cx="380880" cy="15264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06960" y="2577960"/>
            <a:ext cx="703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F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15000" y="2585880"/>
            <a:ext cx="301680" cy="155880"/>
          </a:xfrm>
          <a:custGeom>
            <a:avLst/>
            <a:gdLst/>
            <a:ahLst/>
            <a:rect l="l" t="t" r="r" b="b"/>
            <a:pathLst>
              <a:path w="192" h="96">
                <a:moveTo>
                  <a:pt x="192" y="0"/>
                </a:moveTo>
                <a:cubicBezTo>
                  <a:pt x="184" y="16"/>
                  <a:pt x="176" y="32"/>
                  <a:pt x="144" y="48"/>
                </a:cubicBezTo>
                <a:cubicBezTo>
                  <a:pt x="112" y="64"/>
                  <a:pt x="56" y="80"/>
                  <a:pt x="0" y="96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73240" y="3430440"/>
            <a:ext cx="15904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,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04320" y="3276720"/>
            <a:ext cx="3280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X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11110111100000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134200" y="3657600"/>
            <a:ext cx="703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F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861320" y="3048120"/>
            <a:ext cx="1130400" cy="685800"/>
          </a:xfrm>
          <a:custGeom>
            <a:avLst/>
            <a:gdLst/>
            <a:ahLst/>
            <a:rect l="l" t="t" r="r" b="b"/>
            <a:pathLst>
              <a:path w="664" h="480">
                <a:moveTo>
                  <a:pt x="0" y="0"/>
                </a:moveTo>
                <a:cubicBezTo>
                  <a:pt x="244" y="128"/>
                  <a:pt x="488" y="256"/>
                  <a:pt x="576" y="336"/>
                </a:cubicBezTo>
                <a:cubicBezTo>
                  <a:pt x="664" y="416"/>
                  <a:pt x="596" y="448"/>
                  <a:pt x="528" y="48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6019920" y="3048120"/>
            <a:ext cx="457200" cy="304560"/>
            <a:chOff x="6019920" y="3048120"/>
            <a:chExt cx="457200" cy="304560"/>
          </a:xfrm>
        </p:grpSpPr>
        <p:sp>
          <p:nvSpPr>
            <p:cNvPr id="80" name=""/>
            <p:cNvSpPr/>
            <p:nvPr/>
          </p:nvSpPr>
          <p:spPr>
            <a:xfrm>
              <a:off x="6019920" y="3048120"/>
              <a:ext cx="457200" cy="304560"/>
            </a:xfrm>
            <a:prstGeom prst="line">
              <a:avLst/>
            </a:prstGeom>
            <a:ln w="93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019920" y="3048120"/>
              <a:ext cx="152280" cy="304560"/>
            </a:xfrm>
            <a:prstGeom prst="line">
              <a:avLst/>
            </a:prstGeom>
            <a:ln w="93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019920" y="3048120"/>
              <a:ext cx="0" cy="304560"/>
            </a:xfrm>
            <a:prstGeom prst="line">
              <a:avLst/>
            </a:prstGeom>
            <a:ln w="93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19920" y="3048120"/>
              <a:ext cx="304560" cy="304560"/>
            </a:xfrm>
            <a:prstGeom prst="line">
              <a:avLst/>
            </a:prstGeom>
            <a:ln w="93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6019920" y="3048120"/>
            <a:ext cx="2286000" cy="304560"/>
            <a:chOff x="6019920" y="3048120"/>
            <a:chExt cx="2286000" cy="304560"/>
          </a:xfrm>
        </p:grpSpPr>
        <p:sp>
          <p:nvSpPr>
            <p:cNvPr id="85" name=""/>
            <p:cNvSpPr/>
            <p:nvPr/>
          </p:nvSpPr>
          <p:spPr>
            <a:xfrm>
              <a:off x="7543800" y="3048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696080" y="3048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238880" y="3048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391520" y="3048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934320" y="3048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086600" y="3048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629400" y="3048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781680" y="3048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3048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77120" y="3048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19920" y="3048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172200" y="3048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8001000" y="3048120"/>
            <a:ext cx="533520" cy="228600"/>
            <a:chOff x="8001000" y="3048120"/>
            <a:chExt cx="533520" cy="228600"/>
          </a:xfrm>
        </p:grpSpPr>
        <p:sp>
          <p:nvSpPr>
            <p:cNvPr id="98" name=""/>
            <p:cNvSpPr/>
            <p:nvPr/>
          </p:nvSpPr>
          <p:spPr>
            <a:xfrm>
              <a:off x="8001000" y="3048120"/>
              <a:ext cx="533520" cy="228600"/>
            </a:xfrm>
            <a:prstGeom prst="line">
              <a:avLst/>
            </a:prstGeom>
            <a:ln w="9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153280" y="3048120"/>
              <a:ext cx="381240" cy="228600"/>
            </a:xfrm>
            <a:prstGeom prst="line">
              <a:avLst/>
            </a:prstGeom>
            <a:ln w="9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05920" y="3048120"/>
              <a:ext cx="228600" cy="228600"/>
            </a:xfrm>
            <a:prstGeom prst="line">
              <a:avLst/>
            </a:prstGeom>
            <a:ln w="9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8519760" y="300996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Times New Roman"/>
              </a:rPr>
              <a:t>l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5562720"/>
            <a:ext cx="4446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X=0BC3H; AX= 5678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7480" y="6019920"/>
            <a:ext cx="1971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,CX,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15000" y="6284880"/>
            <a:ext cx="3581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X=0BC3H; AX= 3567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8153280" y="5892840"/>
            <a:ext cx="533520" cy="457200"/>
            <a:chOff x="8153280" y="5892840"/>
            <a:chExt cx="533520" cy="457200"/>
          </a:xfrm>
        </p:grpSpPr>
        <p:sp>
          <p:nvSpPr>
            <p:cNvPr id="106" name=""/>
            <p:cNvSpPr/>
            <p:nvPr/>
          </p:nvSpPr>
          <p:spPr>
            <a:xfrm>
              <a:off x="8153280" y="589284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05920" y="589284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458200" y="589284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6916680" y="5891040"/>
            <a:ext cx="1279440" cy="47628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529480" y="596412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F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621640" y="5904000"/>
            <a:ext cx="163440" cy="147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80560" y="647712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unchang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638680" y="6629400"/>
            <a:ext cx="228600" cy="7632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0"/>
            <a:ext cx="7772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4 Bit Manipulation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80480" y="368280"/>
            <a:ext cx="60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tate instructions: ROL, ROR, RCL, RC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63440" y="776160"/>
          <a:ext cx="8751960" cy="166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440" y="776160"/>
                    <a:ext cx="8751960" cy="16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52280" y="2519280"/>
          <a:ext cx="2764080" cy="1646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519280"/>
                    <a:ext cx="276408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2968200" y="2516040"/>
            <a:ext cx="574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s: initial value in AX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1110000000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3240" y="3054240"/>
            <a:ext cx="15904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04320" y="3013200"/>
            <a:ext cx="3280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X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1111000000010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019560" y="2860560"/>
            <a:ext cx="2286360" cy="228600"/>
            <a:chOff x="6019560" y="2860560"/>
            <a:chExt cx="2286360" cy="228600"/>
          </a:xfrm>
        </p:grpSpPr>
        <p:sp>
          <p:nvSpPr>
            <p:cNvPr id="124" name=""/>
            <p:cNvSpPr/>
            <p:nvPr/>
          </p:nvSpPr>
          <p:spPr>
            <a:xfrm flipH="1">
              <a:off x="8153280" y="286056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8000640" y="286056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7848360" y="286056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7696080" y="286056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7543440" y="286056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7391160" y="286056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7238880" y="286056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7086240" y="286056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6933960" y="286056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6781680" y="286056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6629040" y="286056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6476760" y="286056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6324480" y="286056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6171840" y="286056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6019560" y="286056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5106960" y="2847960"/>
            <a:ext cx="703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F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15000" y="2855880"/>
            <a:ext cx="301680" cy="155520"/>
          </a:xfrm>
          <a:custGeom>
            <a:avLst/>
            <a:gdLst/>
            <a:ahLst/>
            <a:rect l="l" t="t" r="r" b="b"/>
            <a:pathLst>
              <a:path w="192" h="96">
                <a:moveTo>
                  <a:pt x="192" y="0"/>
                </a:moveTo>
                <a:cubicBezTo>
                  <a:pt x="184" y="16"/>
                  <a:pt x="176" y="32"/>
                  <a:pt x="144" y="48"/>
                </a:cubicBezTo>
                <a:cubicBezTo>
                  <a:pt x="112" y="64"/>
                  <a:pt x="56" y="80"/>
                  <a:pt x="0" y="96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73240" y="3700440"/>
            <a:ext cx="15904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,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04320" y="3546360"/>
            <a:ext cx="3280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X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110111100000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86480" y="4232160"/>
            <a:ext cx="703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F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66000" y="3324240"/>
            <a:ext cx="1359000" cy="1025640"/>
          </a:xfrm>
          <a:custGeom>
            <a:avLst/>
            <a:gdLst/>
            <a:ahLst/>
            <a:rect l="l" t="t" r="r" b="b"/>
            <a:pathLst>
              <a:path w="664" h="480">
                <a:moveTo>
                  <a:pt x="0" y="0"/>
                </a:moveTo>
                <a:cubicBezTo>
                  <a:pt x="244" y="128"/>
                  <a:pt x="488" y="256"/>
                  <a:pt x="576" y="336"/>
                </a:cubicBezTo>
                <a:cubicBezTo>
                  <a:pt x="664" y="416"/>
                  <a:pt x="596" y="448"/>
                  <a:pt x="528" y="48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019920" y="3317760"/>
            <a:ext cx="2286000" cy="304560"/>
            <a:chOff x="6019920" y="3317760"/>
            <a:chExt cx="2286000" cy="304560"/>
          </a:xfrm>
        </p:grpSpPr>
        <p:sp>
          <p:nvSpPr>
            <p:cNvPr id="146" name=""/>
            <p:cNvSpPr/>
            <p:nvPr/>
          </p:nvSpPr>
          <p:spPr>
            <a:xfrm>
              <a:off x="7543800" y="331776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96080" y="331776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238880" y="331776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91520" y="331776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34320" y="331776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86600" y="331776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29400" y="331776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81680" y="331776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24480" y="331776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77120" y="331776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19920" y="331776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72200" y="331776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6095880" y="2471760"/>
            <a:ext cx="2806920" cy="609480"/>
          </a:xfrm>
          <a:custGeom>
            <a:avLst/>
            <a:gdLst/>
            <a:ahLst/>
            <a:rect l="l" t="t" r="r" b="b"/>
            <a:pathLst>
              <a:path w="1816" h="400">
                <a:moveTo>
                  <a:pt x="0" y="64"/>
                </a:moveTo>
                <a:cubicBezTo>
                  <a:pt x="312" y="40"/>
                  <a:pt x="624" y="16"/>
                  <a:pt x="912" y="16"/>
                </a:cubicBezTo>
                <a:cubicBezTo>
                  <a:pt x="1200" y="16"/>
                  <a:pt x="1640" y="0"/>
                  <a:pt x="1728" y="64"/>
                </a:cubicBezTo>
                <a:cubicBezTo>
                  <a:pt x="1816" y="128"/>
                  <a:pt x="1628" y="264"/>
                  <a:pt x="1440" y="400"/>
                </a:cubicBezTo>
              </a:path>
            </a:pathLst>
          </a:custGeom>
          <a:noFill/>
          <a:ln w="936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961240" y="3319560"/>
            <a:ext cx="2971800" cy="982440"/>
            <a:chOff x="5961240" y="3319560"/>
            <a:chExt cx="2971800" cy="982440"/>
          </a:xfrm>
        </p:grpSpPr>
        <p:sp>
          <p:nvSpPr>
            <p:cNvPr id="160" name=""/>
            <p:cNvSpPr/>
            <p:nvPr/>
          </p:nvSpPr>
          <p:spPr>
            <a:xfrm>
              <a:off x="5961240" y="3324240"/>
              <a:ext cx="2717640" cy="723960"/>
            </a:xfrm>
            <a:custGeom>
              <a:avLst/>
              <a:gdLst/>
              <a:ahLst/>
              <a:rect l="l" t="t" r="r" b="b"/>
              <a:pathLst>
                <a:path w="1712" h="456">
                  <a:moveTo>
                    <a:pt x="1192" y="0"/>
                  </a:moveTo>
                  <a:cubicBezTo>
                    <a:pt x="1412" y="108"/>
                    <a:pt x="1632" y="216"/>
                    <a:pt x="1672" y="288"/>
                  </a:cubicBezTo>
                  <a:cubicBezTo>
                    <a:pt x="1712" y="360"/>
                    <a:pt x="1672" y="408"/>
                    <a:pt x="1432" y="432"/>
                  </a:cubicBezTo>
                  <a:cubicBezTo>
                    <a:pt x="1192" y="456"/>
                    <a:pt x="464" y="448"/>
                    <a:pt x="232" y="432"/>
                  </a:cubicBezTo>
                  <a:cubicBezTo>
                    <a:pt x="0" y="416"/>
                    <a:pt x="20" y="376"/>
                    <a:pt x="40" y="336"/>
                  </a:cubicBezTo>
                </a:path>
              </a:pathLst>
            </a:custGeom>
            <a:noFill/>
            <a:ln w="9360">
              <a:solidFill>
                <a:srgbClr val="00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81800" y="3324240"/>
              <a:ext cx="2451240" cy="977760"/>
            </a:xfrm>
            <a:custGeom>
              <a:avLst/>
              <a:gdLst/>
              <a:ahLst/>
              <a:rect l="l" t="t" r="r" b="b"/>
              <a:pathLst>
                <a:path w="1544" h="616">
                  <a:moveTo>
                    <a:pt x="1152" y="0"/>
                  </a:moveTo>
                  <a:cubicBezTo>
                    <a:pt x="1348" y="144"/>
                    <a:pt x="1544" y="288"/>
                    <a:pt x="1536" y="384"/>
                  </a:cubicBezTo>
                  <a:cubicBezTo>
                    <a:pt x="1528" y="480"/>
                    <a:pt x="1288" y="544"/>
                    <a:pt x="1104" y="576"/>
                  </a:cubicBezTo>
                  <a:cubicBezTo>
                    <a:pt x="920" y="608"/>
                    <a:pt x="616" y="616"/>
                    <a:pt x="432" y="576"/>
                  </a:cubicBezTo>
                  <a:cubicBezTo>
                    <a:pt x="248" y="536"/>
                    <a:pt x="124" y="436"/>
                    <a:pt x="0" y="336"/>
                  </a:cubicBezTo>
                </a:path>
              </a:pathLst>
            </a:custGeom>
            <a:noFill/>
            <a:ln w="9360">
              <a:solidFill>
                <a:srgbClr val="00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76880" y="3324240"/>
              <a:ext cx="2563920" cy="797040"/>
            </a:xfrm>
            <a:custGeom>
              <a:avLst/>
              <a:gdLst/>
              <a:ahLst/>
              <a:rect l="l" t="t" r="r" b="b"/>
              <a:pathLst>
                <a:path w="1615" h="502">
                  <a:moveTo>
                    <a:pt x="1161" y="0"/>
                  </a:moveTo>
                  <a:cubicBezTo>
                    <a:pt x="1369" y="118"/>
                    <a:pt x="1577" y="237"/>
                    <a:pt x="1596" y="315"/>
                  </a:cubicBezTo>
                  <a:cubicBezTo>
                    <a:pt x="1615" y="393"/>
                    <a:pt x="1493" y="443"/>
                    <a:pt x="1275" y="471"/>
                  </a:cubicBezTo>
                  <a:cubicBezTo>
                    <a:pt x="1057" y="499"/>
                    <a:pt x="500" y="502"/>
                    <a:pt x="288" y="480"/>
                  </a:cubicBezTo>
                  <a:cubicBezTo>
                    <a:pt x="76" y="458"/>
                    <a:pt x="38" y="397"/>
                    <a:pt x="0" y="336"/>
                  </a:cubicBezTo>
                </a:path>
              </a:pathLst>
            </a:custGeom>
            <a:noFill/>
            <a:ln w="9360">
              <a:solidFill>
                <a:srgbClr val="00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38880" y="3319560"/>
              <a:ext cx="2481120" cy="898560"/>
            </a:xfrm>
            <a:custGeom>
              <a:avLst/>
              <a:gdLst/>
              <a:ahLst/>
              <a:rect l="l" t="t" r="r" b="b"/>
              <a:pathLst>
                <a:path w="1563" h="566">
                  <a:moveTo>
                    <a:pt x="1155" y="0"/>
                  </a:moveTo>
                  <a:cubicBezTo>
                    <a:pt x="1359" y="134"/>
                    <a:pt x="1563" y="269"/>
                    <a:pt x="1557" y="357"/>
                  </a:cubicBezTo>
                  <a:cubicBezTo>
                    <a:pt x="1551" y="445"/>
                    <a:pt x="1324" y="502"/>
                    <a:pt x="1116" y="531"/>
                  </a:cubicBezTo>
                  <a:cubicBezTo>
                    <a:pt x="908" y="560"/>
                    <a:pt x="492" y="566"/>
                    <a:pt x="306" y="534"/>
                  </a:cubicBezTo>
                  <a:cubicBezTo>
                    <a:pt x="120" y="502"/>
                    <a:pt x="60" y="419"/>
                    <a:pt x="0" y="336"/>
                  </a:cubicBezTo>
                </a:path>
              </a:pathLst>
            </a:custGeom>
            <a:noFill/>
            <a:ln w="9360">
              <a:solidFill>
                <a:srgbClr val="00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300600" y="4649760"/>
            <a:ext cx="6774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s: initial value in AX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11100000001B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CF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6360" y="5187960"/>
            <a:ext cx="15904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34560" y="5146560"/>
            <a:ext cx="4322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X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1111000000011B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CF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352320" y="4994280"/>
            <a:ext cx="2286360" cy="228600"/>
            <a:chOff x="3352320" y="4994280"/>
            <a:chExt cx="2286360" cy="228600"/>
          </a:xfrm>
        </p:grpSpPr>
        <p:sp>
          <p:nvSpPr>
            <p:cNvPr id="168" name=""/>
            <p:cNvSpPr/>
            <p:nvPr/>
          </p:nvSpPr>
          <p:spPr>
            <a:xfrm flipH="1">
              <a:off x="5486040" y="499428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5333400" y="4994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5181120" y="4994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5028840" y="499428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4876200" y="4994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4723920" y="4994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571640" y="499428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4419000" y="4994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4266720" y="4994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4114440" y="499428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3961800" y="4994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809520" y="4994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3657240" y="499428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04600" y="4994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3352320" y="4994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06360" y="5834160"/>
            <a:ext cx="15904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,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34200" y="5680080"/>
            <a:ext cx="4304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X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10111100000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CF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352680" y="5451480"/>
            <a:ext cx="2286000" cy="304560"/>
            <a:chOff x="3352680" y="5451480"/>
            <a:chExt cx="2286000" cy="304560"/>
          </a:xfrm>
        </p:grpSpPr>
        <p:sp>
          <p:nvSpPr>
            <p:cNvPr id="186" name=""/>
            <p:cNvSpPr/>
            <p:nvPr/>
          </p:nvSpPr>
          <p:spPr>
            <a:xfrm>
              <a:off x="4876560" y="545148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8840" y="545148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71640" y="545148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24280" y="545148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67080" y="545148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19360" y="545148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962160" y="545148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14440" y="545148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57240" y="545148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09880" y="545148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52680" y="545148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04960" y="545148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279600" y="5452920"/>
            <a:ext cx="3114720" cy="898560"/>
            <a:chOff x="3279600" y="5452920"/>
            <a:chExt cx="3114720" cy="898560"/>
          </a:xfrm>
        </p:grpSpPr>
        <p:sp>
          <p:nvSpPr>
            <p:cNvPr id="199" name=""/>
            <p:cNvSpPr/>
            <p:nvPr/>
          </p:nvSpPr>
          <p:spPr>
            <a:xfrm>
              <a:off x="3279600" y="5457960"/>
              <a:ext cx="2959200" cy="723600"/>
            </a:xfrm>
            <a:custGeom>
              <a:avLst/>
              <a:gdLst/>
              <a:ahLst/>
              <a:rect l="l" t="t" r="r" b="b"/>
              <a:pathLst>
                <a:path w="1712" h="456">
                  <a:moveTo>
                    <a:pt x="1192" y="0"/>
                  </a:moveTo>
                  <a:cubicBezTo>
                    <a:pt x="1412" y="108"/>
                    <a:pt x="1632" y="216"/>
                    <a:pt x="1672" y="288"/>
                  </a:cubicBezTo>
                  <a:cubicBezTo>
                    <a:pt x="1712" y="360"/>
                    <a:pt x="1672" y="408"/>
                    <a:pt x="1432" y="432"/>
                  </a:cubicBezTo>
                  <a:cubicBezTo>
                    <a:pt x="1192" y="456"/>
                    <a:pt x="464" y="448"/>
                    <a:pt x="232" y="432"/>
                  </a:cubicBezTo>
                  <a:cubicBezTo>
                    <a:pt x="0" y="416"/>
                    <a:pt x="20" y="376"/>
                    <a:pt x="40" y="336"/>
                  </a:cubicBezTo>
                </a:path>
              </a:pathLst>
            </a:custGeom>
            <a:noFill/>
            <a:ln w="9360">
              <a:solidFill>
                <a:srgbClr val="00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511440" y="5457960"/>
              <a:ext cx="2795760" cy="796680"/>
            </a:xfrm>
            <a:custGeom>
              <a:avLst/>
              <a:gdLst/>
              <a:ahLst/>
              <a:rect l="l" t="t" r="r" b="b"/>
              <a:pathLst>
                <a:path w="1615" h="502">
                  <a:moveTo>
                    <a:pt x="1161" y="0"/>
                  </a:moveTo>
                  <a:cubicBezTo>
                    <a:pt x="1369" y="118"/>
                    <a:pt x="1577" y="237"/>
                    <a:pt x="1596" y="315"/>
                  </a:cubicBezTo>
                  <a:cubicBezTo>
                    <a:pt x="1615" y="393"/>
                    <a:pt x="1493" y="443"/>
                    <a:pt x="1275" y="471"/>
                  </a:cubicBezTo>
                  <a:cubicBezTo>
                    <a:pt x="1057" y="499"/>
                    <a:pt x="500" y="502"/>
                    <a:pt x="288" y="480"/>
                  </a:cubicBezTo>
                  <a:cubicBezTo>
                    <a:pt x="76" y="458"/>
                    <a:pt x="38" y="397"/>
                    <a:pt x="0" y="336"/>
                  </a:cubicBezTo>
                </a:path>
              </a:pathLst>
            </a:custGeom>
            <a:noFill/>
            <a:ln w="9360">
              <a:solidFill>
                <a:srgbClr val="00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70200" y="5452920"/>
              <a:ext cx="2724120" cy="898560"/>
            </a:xfrm>
            <a:custGeom>
              <a:avLst/>
              <a:gdLst/>
              <a:ahLst/>
              <a:rect l="l" t="t" r="r" b="b"/>
              <a:pathLst>
                <a:path w="1563" h="566">
                  <a:moveTo>
                    <a:pt x="1155" y="0"/>
                  </a:moveTo>
                  <a:cubicBezTo>
                    <a:pt x="1359" y="134"/>
                    <a:pt x="1563" y="269"/>
                    <a:pt x="1557" y="357"/>
                  </a:cubicBezTo>
                  <a:cubicBezTo>
                    <a:pt x="1551" y="445"/>
                    <a:pt x="1324" y="502"/>
                    <a:pt x="1116" y="531"/>
                  </a:cubicBezTo>
                  <a:cubicBezTo>
                    <a:pt x="908" y="560"/>
                    <a:pt x="492" y="566"/>
                    <a:pt x="306" y="534"/>
                  </a:cubicBezTo>
                  <a:cubicBezTo>
                    <a:pt x="120" y="502"/>
                    <a:pt x="60" y="419"/>
                    <a:pt x="0" y="336"/>
                  </a:cubicBezTo>
                </a:path>
              </a:pathLst>
            </a:custGeom>
            <a:noFill/>
            <a:ln w="9360">
              <a:solidFill>
                <a:srgbClr val="00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5649840" y="4976640"/>
            <a:ext cx="1251000" cy="238320"/>
          </a:xfrm>
          <a:custGeom>
            <a:avLst/>
            <a:gdLst/>
            <a:ahLst/>
            <a:rect l="l" t="t" r="r" b="b"/>
            <a:pathLst>
              <a:path w="788" h="150">
                <a:moveTo>
                  <a:pt x="788" y="0"/>
                </a:moveTo>
                <a:cubicBezTo>
                  <a:pt x="774" y="20"/>
                  <a:pt x="760" y="40"/>
                  <a:pt x="647" y="51"/>
                </a:cubicBezTo>
                <a:cubicBezTo>
                  <a:pt x="534" y="62"/>
                  <a:pt x="214" y="50"/>
                  <a:pt x="107" y="66"/>
                </a:cubicBezTo>
                <a:cubicBezTo>
                  <a:pt x="0" y="82"/>
                  <a:pt x="1" y="116"/>
                  <a:pt x="2" y="150"/>
                </a:cubicBezTo>
              </a:path>
            </a:pathLst>
          </a:custGeom>
          <a:noFill/>
          <a:ln w="936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95520" y="4560840"/>
            <a:ext cx="3816360" cy="654120"/>
          </a:xfrm>
          <a:custGeom>
            <a:avLst/>
            <a:gdLst/>
            <a:ahLst/>
            <a:rect l="l" t="t" r="r" b="b"/>
            <a:pathLst>
              <a:path w="2404" h="412">
                <a:moveTo>
                  <a:pt x="0" y="106"/>
                </a:moveTo>
                <a:cubicBezTo>
                  <a:pt x="14" y="81"/>
                  <a:pt x="29" y="57"/>
                  <a:pt x="378" y="49"/>
                </a:cubicBezTo>
                <a:cubicBezTo>
                  <a:pt x="727" y="41"/>
                  <a:pt x="1784" y="0"/>
                  <a:pt x="2094" y="61"/>
                </a:cubicBezTo>
                <a:cubicBezTo>
                  <a:pt x="2404" y="122"/>
                  <a:pt x="2319" y="267"/>
                  <a:pt x="2235" y="41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19600" y="5472000"/>
            <a:ext cx="3071880" cy="684360"/>
          </a:xfrm>
          <a:custGeom>
            <a:avLst/>
            <a:gdLst/>
            <a:ahLst/>
            <a:rect l="l" t="t" r="r" b="b"/>
            <a:pathLst>
              <a:path w="1935" h="431">
                <a:moveTo>
                  <a:pt x="1935" y="0"/>
                </a:moveTo>
                <a:cubicBezTo>
                  <a:pt x="1770" y="150"/>
                  <a:pt x="1605" y="301"/>
                  <a:pt x="1323" y="366"/>
                </a:cubicBezTo>
                <a:cubicBezTo>
                  <a:pt x="1041" y="431"/>
                  <a:pt x="460" y="395"/>
                  <a:pt x="240" y="390"/>
                </a:cubicBezTo>
                <a:cubicBezTo>
                  <a:pt x="20" y="385"/>
                  <a:pt x="10" y="359"/>
                  <a:pt x="0" y="333"/>
                </a:cubicBezTo>
              </a:path>
            </a:pathLst>
          </a:custGeom>
          <a:noFill/>
          <a:ln w="936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00560" y="5457960"/>
            <a:ext cx="1623960" cy="361800"/>
          </a:xfrm>
          <a:custGeom>
            <a:avLst/>
            <a:gdLst/>
            <a:ahLst/>
            <a:rect l="l" t="t" r="r" b="b"/>
            <a:pathLst>
              <a:path w="1023" h="228">
                <a:moveTo>
                  <a:pt x="0" y="0"/>
                </a:moveTo>
                <a:cubicBezTo>
                  <a:pt x="72" y="41"/>
                  <a:pt x="144" y="82"/>
                  <a:pt x="315" y="120"/>
                </a:cubicBezTo>
                <a:cubicBezTo>
                  <a:pt x="486" y="158"/>
                  <a:pt x="754" y="193"/>
                  <a:pt x="1023" y="228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47640" y="0"/>
            <a:ext cx="7772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5 Control Transfer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68360" y="33336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79280" y="692280"/>
          <a:ext cx="8801280" cy="67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692280"/>
                    <a:ext cx="880128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42920" y="1432080"/>
          <a:ext cx="6105600" cy="1595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2920" y="1432080"/>
                    <a:ext cx="6105600" cy="15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6221520" y="1341360"/>
            <a:ext cx="2922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relative jump address is computed  adding the signed byte (for short jumps) or word (dword) operand to the address of the first byte that follows the JMP instru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16760" y="2997360"/>
            <a:ext cx="622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OP, LOOPE/LOOPZ, LOOPNE/LOOP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52280" y="3402000"/>
          <a:ext cx="8812440" cy="13953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3402000"/>
                    <a:ext cx="881244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152280" y="4805280"/>
          <a:ext cx="7031160" cy="4986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4805280"/>
                    <a:ext cx="703116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3352320" y="522936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CXZ/JECX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03040" y="5638680"/>
          <a:ext cx="8690040" cy="68112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3040" y="5638680"/>
                    <a:ext cx="869004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203040" y="6324480"/>
          <a:ext cx="3149640" cy="44460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3040" y="6324480"/>
                    <a:ext cx="31496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47640" y="0"/>
            <a:ext cx="7772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5 Control Transfer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68000" y="40464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04760" y="812880"/>
          <a:ext cx="7743960" cy="71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760" y="812880"/>
                    <a:ext cx="774396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7873920" y="812880"/>
          <a:ext cx="1249560" cy="714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73920" y="812880"/>
                    <a:ext cx="124956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11240" y="1909800"/>
          <a:ext cx="8993160" cy="32925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240" y="1909800"/>
                    <a:ext cx="8993160" cy="32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982440" y="5562720"/>
            <a:ext cx="70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erms “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le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and “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grea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are used for comparisons of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igned intege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82440" y="5958000"/>
            <a:ext cx="75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erms “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bo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and “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belo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are used for comparisons of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unsigned intege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937040" y="5464080"/>
            <a:ext cx="230184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Assembler directives specifying the begin and the end of a </a:t>
            </a:r>
            <a:r>
              <a:rPr b="0" lang="en-US" sz="1800" spc="-1" strike="noStrike">
                <a:solidFill>
                  <a:srgbClr val="9900cc"/>
                </a:solidFill>
                <a:latin typeface="Times New Roman"/>
              </a:rPr>
              <a:t>NEAR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 or </a:t>
            </a:r>
            <a:r>
              <a:rPr b="0" lang="en-US" sz="1800" spc="-1" strike="noStrike">
                <a:solidFill>
                  <a:srgbClr val="9900cc"/>
                </a:solidFill>
                <a:latin typeface="Times New Roman"/>
              </a:rPr>
              <a:t>FAR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 procedure (subroutin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7640" y="0"/>
            <a:ext cx="7772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5 Control Transfer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927600" y="33336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52280" y="685800"/>
          <a:ext cx="8801280" cy="83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5800"/>
                    <a:ext cx="88012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142920" y="1584360"/>
          <a:ext cx="8821800" cy="1290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2920" y="1584360"/>
                    <a:ext cx="882180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2212560" y="28954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52280" y="3276720"/>
          <a:ext cx="4775400" cy="21333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3276720"/>
                    <a:ext cx="477540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152280" y="5486400"/>
          <a:ext cx="4780080" cy="13273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5486400"/>
                    <a:ext cx="4780080" cy="13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5259960" y="2665440"/>
            <a:ext cx="250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EX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10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X,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20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EX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020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X,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59960" y="4172040"/>
            <a:ext cx="329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5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SUB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N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5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SUB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EN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086600" y="3124080"/>
            <a:ext cx="1143000" cy="1371600"/>
          </a:xfrm>
          <a:custGeom>
            <a:avLst/>
            <a:gdLst/>
            <a:ahLst/>
            <a:rect l="l" t="t" r="r" b="b"/>
            <a:pathLst>
              <a:path w="896" h="1104">
                <a:moveTo>
                  <a:pt x="480" y="0"/>
                </a:moveTo>
                <a:cubicBezTo>
                  <a:pt x="688" y="196"/>
                  <a:pt x="896" y="392"/>
                  <a:pt x="816" y="576"/>
                </a:cubicBezTo>
                <a:cubicBezTo>
                  <a:pt x="736" y="760"/>
                  <a:pt x="368" y="932"/>
                  <a:pt x="0" y="1104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940280" y="3505320"/>
            <a:ext cx="393840" cy="1600200"/>
          </a:xfrm>
          <a:custGeom>
            <a:avLst/>
            <a:gdLst/>
            <a:ahLst/>
            <a:rect l="l" t="t" r="r" b="b"/>
            <a:pathLst>
              <a:path w="248" h="1392">
                <a:moveTo>
                  <a:pt x="248" y="1392"/>
                </a:moveTo>
                <a:cubicBezTo>
                  <a:pt x="132" y="1100"/>
                  <a:pt x="16" y="808"/>
                  <a:pt x="8" y="576"/>
                </a:cubicBezTo>
                <a:cubicBezTo>
                  <a:pt x="0" y="344"/>
                  <a:pt x="100" y="172"/>
                  <a:pt x="20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1680" y="3962520"/>
            <a:ext cx="990720" cy="53316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576" y="0"/>
                </a:moveTo>
                <a:cubicBezTo>
                  <a:pt x="600" y="72"/>
                  <a:pt x="624" y="144"/>
                  <a:pt x="528" y="240"/>
                </a:cubicBezTo>
                <a:cubicBezTo>
                  <a:pt x="432" y="336"/>
                  <a:pt x="216" y="456"/>
                  <a:pt x="0" y="576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05520" y="4267080"/>
            <a:ext cx="228600" cy="762120"/>
          </a:xfrm>
          <a:custGeom>
            <a:avLst/>
            <a:gdLst/>
            <a:ahLst/>
            <a:rect l="l" t="t" r="r" b="b"/>
            <a:pathLst>
              <a:path w="144" h="816">
                <a:moveTo>
                  <a:pt x="144" y="816"/>
                </a:moveTo>
                <a:cubicBezTo>
                  <a:pt x="72" y="620"/>
                  <a:pt x="0" y="424"/>
                  <a:pt x="0" y="288"/>
                </a:cubicBezTo>
                <a:cubicBezTo>
                  <a:pt x="0" y="152"/>
                  <a:pt x="72" y="76"/>
                  <a:pt x="144" y="0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04600" y="5560920"/>
            <a:ext cx="134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F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FF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501760" y="5835600"/>
            <a:ext cx="67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130160" y="5560920"/>
            <a:ext cx="1348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F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FF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501760" y="5837400"/>
            <a:ext cx="6714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501760" y="5835600"/>
            <a:ext cx="6714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451000" y="5805360"/>
            <a:ext cx="6714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130160" y="5560920"/>
            <a:ext cx="1348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F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FF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451000" y="5808600"/>
            <a:ext cx="6714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086600" y="4419720"/>
            <a:ext cx="685800" cy="380880"/>
          </a:xfrm>
          <a:prstGeom prst="ellipse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10280" y="5257800"/>
            <a:ext cx="762120" cy="380880"/>
          </a:xfrm>
          <a:prstGeom prst="ellipse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943600" y="5638680"/>
            <a:ext cx="1295280" cy="520920"/>
          </a:xfrm>
          <a:custGeom>
            <a:avLst/>
            <a:gdLst/>
            <a:ahLst/>
            <a:rect l="l" t="t" r="r" b="b"/>
            <a:pathLst>
              <a:path w="816" h="328">
                <a:moveTo>
                  <a:pt x="816" y="0"/>
                </a:moveTo>
                <a:cubicBezTo>
                  <a:pt x="752" y="124"/>
                  <a:pt x="688" y="248"/>
                  <a:pt x="576" y="288"/>
                </a:cubicBezTo>
                <a:cubicBezTo>
                  <a:pt x="464" y="328"/>
                  <a:pt x="240" y="240"/>
                  <a:pt x="144" y="240"/>
                </a:cubicBezTo>
                <a:cubicBezTo>
                  <a:pt x="48" y="240"/>
                  <a:pt x="24" y="264"/>
                  <a:pt x="0" y="288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34320" y="4800600"/>
            <a:ext cx="1092240" cy="1066680"/>
          </a:xfrm>
          <a:custGeom>
            <a:avLst/>
            <a:gdLst/>
            <a:ahLst/>
            <a:rect l="l" t="t" r="r" b="b"/>
            <a:pathLst>
              <a:path w="688" h="720">
                <a:moveTo>
                  <a:pt x="384" y="0"/>
                </a:moveTo>
                <a:cubicBezTo>
                  <a:pt x="536" y="204"/>
                  <a:pt x="688" y="408"/>
                  <a:pt x="624" y="528"/>
                </a:cubicBezTo>
                <a:cubicBezTo>
                  <a:pt x="560" y="648"/>
                  <a:pt x="280" y="684"/>
                  <a:pt x="0" y="72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8501760" y="4842000"/>
            <a:ext cx="671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501760" y="4843440"/>
            <a:ext cx="67140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501760" y="4842000"/>
            <a:ext cx="67140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104600" y="4570560"/>
            <a:ext cx="134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FF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FF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FF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FF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F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FF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130160" y="4570560"/>
            <a:ext cx="13482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FF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FF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FF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FF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F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FF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7640" y="0"/>
            <a:ext cx="7772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5 Control Transfer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142880" y="3142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52280" y="690480"/>
          <a:ext cx="8740800" cy="57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90480"/>
                    <a:ext cx="874080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142920" y="1300320"/>
          <a:ext cx="3565440" cy="615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2920" y="1300320"/>
                    <a:ext cx="356544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1481040" y="1874880"/>
            <a:ext cx="20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RET, IRE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52280" y="2286000"/>
          <a:ext cx="4635720" cy="2006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2286000"/>
                    <a:ext cx="4635720" cy="20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5258880" y="2360520"/>
            <a:ext cx="315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00:00FF    MOV  AH, 2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00:0101     INT   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21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100:0103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 AX,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9240" y="3608280"/>
            <a:ext cx="306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07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16B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ISR for INT 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7315200" y="1905120"/>
            <a:ext cx="1219320" cy="1218960"/>
          </a:xfrm>
          <a:custGeom>
            <a:avLst/>
            <a:gdLst/>
            <a:ahLst/>
            <a:rect l="l" t="t" r="r" b="b"/>
            <a:pathLst>
              <a:path w="896" h="1104">
                <a:moveTo>
                  <a:pt x="480" y="0"/>
                </a:moveTo>
                <a:cubicBezTo>
                  <a:pt x="688" y="196"/>
                  <a:pt x="896" y="392"/>
                  <a:pt x="816" y="576"/>
                </a:cubicBezTo>
                <a:cubicBezTo>
                  <a:pt x="736" y="760"/>
                  <a:pt x="368" y="932"/>
                  <a:pt x="0" y="1104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05520" y="3505320"/>
            <a:ext cx="228600" cy="1143000"/>
          </a:xfrm>
          <a:custGeom>
            <a:avLst/>
            <a:gdLst/>
            <a:ahLst/>
            <a:rect l="l" t="t" r="r" b="b"/>
            <a:pathLst>
              <a:path w="248" h="1392">
                <a:moveTo>
                  <a:pt x="248" y="1392"/>
                </a:moveTo>
                <a:cubicBezTo>
                  <a:pt x="132" y="1100"/>
                  <a:pt x="16" y="808"/>
                  <a:pt x="8" y="576"/>
                </a:cubicBezTo>
                <a:cubicBezTo>
                  <a:pt x="0" y="344"/>
                  <a:pt x="100" y="172"/>
                  <a:pt x="20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52280" y="4343400"/>
          <a:ext cx="1816200" cy="4316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4343400"/>
                    <a:ext cx="18162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7758360" y="171468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4*21H=84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260320" y="1141560"/>
            <a:ext cx="1829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0000:0084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  B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0000:0085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  1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0000:0086</a:t>
            </a: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   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0000:0087</a:t>
            </a: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   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553080" y="1371600"/>
            <a:ext cx="457200" cy="121932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29200" y="2590920"/>
            <a:ext cx="1676520" cy="1371600"/>
          </a:xfrm>
          <a:custGeom>
            <a:avLst/>
            <a:gdLst/>
            <a:ahLst/>
            <a:rect l="l" t="t" r="r" b="b"/>
            <a:pathLst>
              <a:path w="776" h="1248">
                <a:moveTo>
                  <a:pt x="776" y="0"/>
                </a:moveTo>
                <a:cubicBezTo>
                  <a:pt x="444" y="16"/>
                  <a:pt x="112" y="32"/>
                  <a:pt x="56" y="240"/>
                </a:cubicBezTo>
                <a:cubicBezTo>
                  <a:pt x="0" y="448"/>
                  <a:pt x="220" y="848"/>
                  <a:pt x="440" y="1248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124960" y="6019920"/>
            <a:ext cx="16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FLAGS=4108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638680" y="6324480"/>
            <a:ext cx="2514600" cy="304920"/>
          </a:xfrm>
          <a:custGeom>
            <a:avLst/>
            <a:gdLst/>
            <a:ahLst/>
            <a:rect l="l" t="t" r="r" b="b"/>
            <a:pathLst>
              <a:path w="2352" h="104">
                <a:moveTo>
                  <a:pt x="2352" y="48"/>
                </a:moveTo>
                <a:cubicBezTo>
                  <a:pt x="1804" y="76"/>
                  <a:pt x="1256" y="104"/>
                  <a:pt x="864" y="96"/>
                </a:cubicBezTo>
                <a:cubicBezTo>
                  <a:pt x="472" y="88"/>
                  <a:pt x="236" y="44"/>
                  <a:pt x="0" y="0"/>
                </a:cubicBezTo>
              </a:path>
            </a:pathLst>
          </a:custGeom>
          <a:noFill/>
          <a:ln w="936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33920" y="1409760"/>
            <a:ext cx="16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IPT= Interrupt Pointer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1480" y="129528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257800" y="4419720"/>
            <a:ext cx="3505320" cy="1676160"/>
          </a:xfrm>
          <a:custGeom>
            <a:avLst/>
            <a:gdLst/>
            <a:ahLst/>
            <a:rect l="l" t="t" r="r" b="b"/>
            <a:pathLst>
              <a:path w="3280" h="576">
                <a:moveTo>
                  <a:pt x="0" y="576"/>
                </a:moveTo>
                <a:cubicBezTo>
                  <a:pt x="1144" y="288"/>
                  <a:pt x="2288" y="0"/>
                  <a:pt x="2784" y="0"/>
                </a:cubicBezTo>
                <a:cubicBezTo>
                  <a:pt x="3280" y="0"/>
                  <a:pt x="3128" y="288"/>
                  <a:pt x="2976" y="576"/>
                </a:cubicBezTo>
              </a:path>
            </a:pathLst>
          </a:custGeom>
          <a:noFill/>
          <a:ln w="936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324480" y="3505320"/>
            <a:ext cx="2171880" cy="1447560"/>
          </a:xfrm>
          <a:custGeom>
            <a:avLst/>
            <a:gdLst/>
            <a:ahLst/>
            <a:rect l="l" t="t" r="r" b="b"/>
            <a:pathLst>
              <a:path w="1368" h="1200">
                <a:moveTo>
                  <a:pt x="0" y="0"/>
                </a:moveTo>
                <a:cubicBezTo>
                  <a:pt x="468" y="44"/>
                  <a:pt x="936" y="88"/>
                  <a:pt x="1152" y="288"/>
                </a:cubicBezTo>
                <a:cubicBezTo>
                  <a:pt x="1368" y="488"/>
                  <a:pt x="1332" y="844"/>
                  <a:pt x="1296" y="120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00440" y="456084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O, B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52280" y="4952880"/>
          <a:ext cx="4775400" cy="11430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280" y="4952880"/>
                    <a:ext cx="4775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152280" y="6095880"/>
          <a:ext cx="2959200" cy="698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2280" y="6095880"/>
                    <a:ext cx="295920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500"/>
                            </p:stCondLst>
                            <p:childTnLst>
                              <p:par>
                                <p:cTn id="5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500"/>
                            </p:stCondLst>
                            <p:childTnLst>
                              <p:par>
                                <p:cTn id="5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47640" y="0"/>
            <a:ext cx="7772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5 Control Transfer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3520" y="45720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TER, LE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52280" y="853920"/>
          <a:ext cx="8910720" cy="995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53920"/>
                    <a:ext cx="891072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149040" y="2286000"/>
            <a:ext cx="35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Level=0, [E]BP is saved on stack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98360" y="1951200"/>
            <a:ext cx="111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F8  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F9  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FA  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FB  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FC  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FD  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FE  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FF  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00  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1920" y="3772080"/>
            <a:ext cx="21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P old value =</a:t>
            </a:r>
            <a:r>
              <a:rPr b="0" lang="en-US" sz="1800" spc="-1" strike="noStrike">
                <a:solidFill>
                  <a:srgbClr val="9900cc"/>
                </a:solidFill>
                <a:latin typeface="Times New Roman"/>
              </a:rPr>
              <a:t>123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2280" y="405288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P new value =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00F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664720" y="4052880"/>
            <a:ext cx="30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 intermediate value =00FE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666880" y="373392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 old value =010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666520" y="441972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 final value =00F8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498360" y="1952640"/>
            <a:ext cx="111960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F8  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F9  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FA  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FB  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FC  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FD  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FE  </a:t>
            </a: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FF  </a:t>
            </a: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00  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95360" y="2209680"/>
            <a:ext cx="671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695360" y="2209680"/>
            <a:ext cx="67140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5360" y="2209680"/>
            <a:ext cx="67140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0120" y="228600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985160" y="2665440"/>
            <a:ext cx="115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erved memory 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2320" y="190512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TER 6,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5680" y="487512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665440" y="6110280"/>
            <a:ext cx="287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 back to old value =010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5000" y="5256360"/>
            <a:ext cx="407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E]SP is loaded with the content of [E]BP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E]BP is popped from stack. =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s before ENTER resto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924680" y="2362320"/>
            <a:ext cx="1143000" cy="1447560"/>
          </a:xfrm>
          <a:prstGeom prst="ellipse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300080" y="544824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Stack 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19" idx="4"/>
            <a:endCxn id="320" idx="0"/>
          </p:cNvCxnSpPr>
          <p:nvPr/>
        </p:nvCxnSpPr>
        <p:spPr>
          <a:xfrm rot="5400000">
            <a:off x="7436880" y="4389120"/>
            <a:ext cx="1639080" cy="480240"/>
          </a:xfrm>
          <a:prstGeom prst="curvedConnector5">
            <a:avLst>
              <a:gd name="adj1" fmla="val 50000"/>
              <a:gd name="adj2" fmla="val 49962"/>
              <a:gd name="adj3" fmla="val 50000"/>
            </a:avLst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924680" y="3886200"/>
            <a:ext cx="381240" cy="380880"/>
          </a:xfrm>
          <a:prstGeom prst="ellipse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623200" y="582948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Frame 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4" name=""/>
          <p:cNvCxnSpPr>
            <a:stCxn id="322" idx="3"/>
            <a:endCxn id="323" idx="0"/>
          </p:cNvCxnSpPr>
          <p:nvPr/>
        </p:nvCxnSpPr>
        <p:spPr>
          <a:xfrm rot="5400000">
            <a:off x="6392160" y="4241880"/>
            <a:ext cx="1618560" cy="1558080"/>
          </a:xfrm>
          <a:prstGeom prst="curvedConnector5">
            <a:avLst>
              <a:gd name="adj1" fmla="val 51701"/>
              <a:gd name="adj2" fmla="val 49988"/>
              <a:gd name="adj3" fmla="val 51701"/>
            </a:avLst>
          </a:prstGeom>
          <a:ln w="9360">
            <a:solidFill>
              <a:srgbClr val="990033"/>
            </a:solidFill>
            <a:miter/>
            <a:tailEnd len="med" type="triangle" w="med"/>
          </a:ln>
        </p:spPr>
      </p:cxnSp>
      <p:sp>
        <p:nvSpPr>
          <p:cNvPr id="325" name=""/>
          <p:cNvSpPr/>
          <p:nvPr/>
        </p:nvSpPr>
        <p:spPr>
          <a:xfrm>
            <a:off x="148680" y="2514600"/>
            <a:ext cx="40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E]BP is loaded with the content of [E]SP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50120" y="2743200"/>
            <a:ext cx="33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E]SP is decremented by Space1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65080" y="6338880"/>
            <a:ext cx="29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P back to old value =</a:t>
            </a:r>
            <a:r>
              <a:rPr b="0" lang="en-US" sz="1800" spc="-1" strike="noStrike">
                <a:solidFill>
                  <a:srgbClr val="9900cc"/>
                </a:solidFill>
                <a:latin typeface="Times New Roman"/>
              </a:rPr>
              <a:t>123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500"/>
                            </p:stCondLst>
                            <p:childTnLst>
                              <p:par>
                                <p:cTn id="6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500"/>
                            </p:stCondLst>
                            <p:childTnLst>
                              <p:par>
                                <p:cTn id="7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3000"/>
                            </p:stCondLst>
                            <p:childTnLst>
                              <p:par>
                                <p:cTn id="7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500"/>
                            </p:stCondLst>
                            <p:childTnLst>
                              <p:par>
                                <p:cTn id="7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4000"/>
                            </p:stCondLst>
                            <p:childTnLst>
                              <p:par>
                                <p:cTn id="73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4500"/>
                            </p:stCondLst>
                            <p:childTnLst>
                              <p:par>
                                <p:cTn id="7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000"/>
                            </p:stCondLst>
                            <p:childTnLst>
                              <p:par>
                                <p:cTn id="7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000"/>
                            </p:stCondLst>
                            <p:childTnLst>
                              <p:par>
                                <p:cTn id="7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500"/>
                            </p:stCondLst>
                            <p:childTnLst>
                              <p:par>
                                <p:cTn id="7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647640" y="0"/>
            <a:ext cx="7772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6 Processor Control Instructions (808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52280" y="488880"/>
          <a:ext cx="8636040" cy="63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88880"/>
                    <a:ext cx="8636040" cy="63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23:12:19Z</dcterms:created>
  <dc:creator>EECS</dc:creator>
  <dc:description/>
  <dc:language>en-US</dc:language>
  <cp:lastModifiedBy>Лъчезар Георгиев</cp:lastModifiedBy>
  <cp:lastPrinted>1999-09-20T03:39:38Z</cp:lastPrinted>
  <dcterms:modified xsi:type="dcterms:W3CDTF">2019-10-24T10:02:02Z</dcterms:modified>
  <cp:revision>60</cp:revision>
  <dc:subject/>
  <dc:title>No Slide Title</dc:title>
</cp:coreProperties>
</file>