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D25-517E-4185-B0AE-359D563F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C99-166C-47AB-8A7B-283B526E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B76-C6A8-4EE2-A62F-2BFF6524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EB5-9A3C-4365-B87C-A954080E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5E5-0983-4C20-9834-6642EAD3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FF6-8996-4807-AEA9-624943B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39E-C5EE-4BF3-85CC-3CEF7C3D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6A3-AE10-4EBE-91BD-AC0C18B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8FF-CCE0-4F51-B9ED-3D98C679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FEA-190F-478F-9772-B48FA61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46B-8652-4BB5-B2DC-77154D2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7A1-CA1D-46E3-B9E5-60C5E6B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CB2-E277-4E47-B358-657FF7FB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0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83800" y="349236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Ambigu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byte, word, double-wor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1080" y="6858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V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79360" y="1130400"/>
          <a:ext cx="6235920" cy="57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130400"/>
                    <a:ext cx="62359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79360" y="1765440"/>
          <a:ext cx="2803680" cy="296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1765440"/>
                    <a:ext cx="28036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757680" y="1841400"/>
            <a:ext cx="18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8720" y="1739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By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0H is loaded into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2560" y="288288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Wo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030H is loaded into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40280" y="1917720"/>
            <a:ext cx="14605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692440"/>
            <a:ext cx="114300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7960" y="5765760"/>
            <a:ext cx="14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57680" y="318780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[SI]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91040" y="3492360"/>
            <a:ext cx="125748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57320" y="44704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WORD PTR [SI]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2360" y="379728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Wo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000H is loaded into memory at address [S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486400" y="4076640"/>
            <a:ext cx="7113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66760" y="4851360"/>
          <a:ext cx="7873920" cy="86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760" y="4851360"/>
                    <a:ext cx="7873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6760" y="5829480"/>
          <a:ext cx="2755800" cy="965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760" y="5829480"/>
                    <a:ext cx="27558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178840" y="4851360"/>
            <a:ext cx="74520" cy="825480"/>
          </a:xfrm>
          <a:custGeom>
            <a:avLst/>
            <a:gdLst>
              <a:gd name="textAreaLeft" fmla="*/ 0 w 74520"/>
              <a:gd name="textAreaRight" fmla="*/ 27000 w 7452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2680" y="494028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386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34200" y="57657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X,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34200" y="61167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X,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38680" y="6116760"/>
            <a:ext cx="14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34200" y="64911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Z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X,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7960" y="6491160"/>
            <a:ext cx="14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60580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01920" y="57657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=28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89320" y="61167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=9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89320" y="6491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=9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5640" y="36828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SH and POP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2000" y="771480"/>
          <a:ext cx="6837120" cy="226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771480"/>
                    <a:ext cx="68371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086600" y="1625760"/>
          <a:ext cx="1943280" cy="143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1625760"/>
                    <a:ext cx="194328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600" y="3835440"/>
            <a:ext cx="206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=40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=05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=03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=02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(40204H)=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3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(40205H)=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2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BX=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55AA66B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62520" y="40734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63240" y="43545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W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[SI+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62880" y="463536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D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882880" y="3568680"/>
          <a:ext cx="1676520" cy="3162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2880" y="3568680"/>
                    <a:ext cx="16765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863240" y="35179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7600" y="5130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ck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9080" y="657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9080" y="609588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9080" y="5587920"/>
            <a:ext cx="21564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62880" y="511812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D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63240" y="567360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W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[SI+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62520" y="5954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2880" y="623556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9080" y="5105520"/>
            <a:ext cx="21564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41680" y="4140360"/>
            <a:ext cx="21600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2600" y="4673520"/>
            <a:ext cx="1333440" cy="63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5"/>
            <a:endCxn id="99" idx="2"/>
          </p:cNvCxnSpPr>
          <p:nvPr/>
        </p:nvCxnSpPr>
        <p:spPr>
          <a:xfrm flipH="1" rot="16200000">
            <a:off x="1073520" y="5265360"/>
            <a:ext cx="259560" cy="1580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910560" y="5396040"/>
            <a:ext cx="22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BX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55AA66B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59040" y="41274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46440" y="5156280"/>
            <a:ext cx="21600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33840" y="6108840"/>
            <a:ext cx="2160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59040" y="5626080"/>
            <a:ext cx="21564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533840" y="65912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2680" y="5130720"/>
            <a:ext cx="1130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9" idx="5"/>
            <a:endCxn id="88" idx="0"/>
          </p:cNvCxnSpPr>
          <p:nvPr/>
        </p:nvCxnSpPr>
        <p:spPr>
          <a:xfrm flipH="1" rot="16200000">
            <a:off x="2006280" y="5956560"/>
            <a:ext cx="862920" cy="381960"/>
          </a:xfrm>
          <a:prstGeom prst="curvedConnector5">
            <a:avLst>
              <a:gd name="adj1" fmla="val 55759"/>
              <a:gd name="adj2" fmla="val 50000"/>
              <a:gd name="adj3" fmla="val 557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2430360" y="3446640"/>
            <a:ext cx="4203720" cy="2649240"/>
          </a:xfrm>
          <a:custGeom>
            <a:avLst/>
            <a:gdLst/>
            <a:ahLst/>
            <a:rect l="l" t="t" r="r" b="b"/>
            <a:pathLst>
              <a:path w="2648" h="1669">
                <a:moveTo>
                  <a:pt x="2357" y="325"/>
                </a:moveTo>
                <a:cubicBezTo>
                  <a:pt x="2502" y="301"/>
                  <a:pt x="2648" y="278"/>
                  <a:pt x="2405" y="229"/>
                </a:cubicBezTo>
                <a:cubicBezTo>
                  <a:pt x="2162" y="180"/>
                  <a:pt x="1277" y="49"/>
                  <a:pt x="901" y="29"/>
                </a:cubicBezTo>
                <a:cubicBezTo>
                  <a:pt x="525" y="9"/>
                  <a:pt x="298" y="0"/>
                  <a:pt x="149" y="109"/>
                </a:cubicBezTo>
                <a:cubicBezTo>
                  <a:pt x="0" y="218"/>
                  <a:pt x="9" y="425"/>
                  <a:pt x="5" y="685"/>
                </a:cubicBezTo>
                <a:cubicBezTo>
                  <a:pt x="1" y="945"/>
                  <a:pt x="63" y="1307"/>
                  <a:pt x="125" y="16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2640" y="3282840"/>
            <a:ext cx="4883040" cy="2305080"/>
          </a:xfrm>
          <a:custGeom>
            <a:avLst/>
            <a:gdLst/>
            <a:ahLst/>
            <a:rect l="l" t="t" r="r" b="b"/>
            <a:pathLst>
              <a:path w="3076" h="1452">
                <a:moveTo>
                  <a:pt x="2472" y="620"/>
                </a:moveTo>
                <a:cubicBezTo>
                  <a:pt x="2576" y="584"/>
                  <a:pt x="2680" y="548"/>
                  <a:pt x="2728" y="500"/>
                </a:cubicBezTo>
                <a:cubicBezTo>
                  <a:pt x="2776" y="452"/>
                  <a:pt x="3076" y="409"/>
                  <a:pt x="2760" y="332"/>
                </a:cubicBezTo>
                <a:cubicBezTo>
                  <a:pt x="2444" y="255"/>
                  <a:pt x="1276" y="52"/>
                  <a:pt x="832" y="36"/>
                </a:cubicBezTo>
                <a:cubicBezTo>
                  <a:pt x="388" y="20"/>
                  <a:pt x="192" y="0"/>
                  <a:pt x="96" y="236"/>
                </a:cubicBezTo>
                <a:cubicBezTo>
                  <a:pt x="0" y="472"/>
                  <a:pt x="128" y="962"/>
                  <a:pt x="256" y="1452"/>
                </a:cubicBezTo>
              </a:path>
            </a:pathLst>
          </a:custGeom>
          <a:noFill/>
          <a:ln w="93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2400" y="3124080"/>
            <a:ext cx="5010120" cy="1994040"/>
          </a:xfrm>
          <a:custGeom>
            <a:avLst/>
            <a:gdLst/>
            <a:ahLst/>
            <a:rect l="l" t="t" r="r" b="b"/>
            <a:pathLst>
              <a:path w="3156" h="1256">
                <a:moveTo>
                  <a:pt x="2779" y="896"/>
                </a:moveTo>
                <a:cubicBezTo>
                  <a:pt x="2941" y="786"/>
                  <a:pt x="3104" y="677"/>
                  <a:pt x="3115" y="592"/>
                </a:cubicBezTo>
                <a:cubicBezTo>
                  <a:pt x="3126" y="507"/>
                  <a:pt x="3156" y="465"/>
                  <a:pt x="2843" y="384"/>
                </a:cubicBezTo>
                <a:cubicBezTo>
                  <a:pt x="2530" y="303"/>
                  <a:pt x="1672" y="152"/>
                  <a:pt x="1235" y="104"/>
                </a:cubicBezTo>
                <a:cubicBezTo>
                  <a:pt x="798" y="56"/>
                  <a:pt x="423" y="0"/>
                  <a:pt x="219" y="96"/>
                </a:cubicBezTo>
                <a:cubicBezTo>
                  <a:pt x="15" y="192"/>
                  <a:pt x="0" y="487"/>
                  <a:pt x="11" y="680"/>
                </a:cubicBezTo>
                <a:cubicBezTo>
                  <a:pt x="22" y="873"/>
                  <a:pt x="152" y="1064"/>
                  <a:pt x="283" y="1256"/>
                </a:cubicBezTo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6240" y="3125880"/>
            <a:ext cx="5651640" cy="1700280"/>
          </a:xfrm>
          <a:custGeom>
            <a:avLst/>
            <a:gdLst/>
            <a:ahLst/>
            <a:rect l="l" t="t" r="r" b="b"/>
            <a:pathLst>
              <a:path w="3560" h="1071">
                <a:moveTo>
                  <a:pt x="2743" y="1071"/>
                </a:moveTo>
                <a:cubicBezTo>
                  <a:pt x="3044" y="923"/>
                  <a:pt x="3346" y="776"/>
                  <a:pt x="3407" y="655"/>
                </a:cubicBezTo>
                <a:cubicBezTo>
                  <a:pt x="3468" y="534"/>
                  <a:pt x="3560" y="450"/>
                  <a:pt x="3111" y="343"/>
                </a:cubicBezTo>
                <a:cubicBezTo>
                  <a:pt x="2662" y="236"/>
                  <a:pt x="1220" y="30"/>
                  <a:pt x="711" y="15"/>
                </a:cubicBezTo>
                <a:cubicBezTo>
                  <a:pt x="202" y="0"/>
                  <a:pt x="110" y="150"/>
                  <a:pt x="55" y="255"/>
                </a:cubicBezTo>
                <a:cubicBezTo>
                  <a:pt x="0" y="360"/>
                  <a:pt x="191" y="503"/>
                  <a:pt x="383" y="647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62440" y="5156280"/>
            <a:ext cx="2046240" cy="444600"/>
          </a:xfrm>
          <a:custGeom>
            <a:avLst/>
            <a:gdLst/>
            <a:ahLst/>
            <a:rect l="l" t="t" r="r" b="b"/>
            <a:pathLst>
              <a:path w="1289" h="280">
                <a:moveTo>
                  <a:pt x="1016" y="280"/>
                </a:moveTo>
                <a:cubicBezTo>
                  <a:pt x="1152" y="223"/>
                  <a:pt x="1289" y="167"/>
                  <a:pt x="1120" y="120"/>
                </a:cubicBezTo>
                <a:cubicBezTo>
                  <a:pt x="951" y="73"/>
                  <a:pt x="475" y="36"/>
                  <a:pt x="0" y="0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9840" y="5987880"/>
            <a:ext cx="1690560" cy="146160"/>
          </a:xfrm>
          <a:custGeom>
            <a:avLst/>
            <a:gdLst/>
            <a:ahLst/>
            <a:rect l="l" t="t" r="r" b="b"/>
            <a:pathLst>
              <a:path w="1065" h="92">
                <a:moveTo>
                  <a:pt x="896" y="92"/>
                </a:moveTo>
                <a:cubicBezTo>
                  <a:pt x="980" y="79"/>
                  <a:pt x="1065" y="67"/>
                  <a:pt x="968" y="52"/>
                </a:cubicBezTo>
                <a:cubicBezTo>
                  <a:pt x="871" y="37"/>
                  <a:pt x="473" y="0"/>
                  <a:pt x="312" y="4"/>
                </a:cubicBezTo>
                <a:cubicBezTo>
                  <a:pt x="151" y="8"/>
                  <a:pt x="75" y="42"/>
                  <a:pt x="0" y="76"/>
                </a:cubicBezTo>
              </a:path>
            </a:pathLst>
          </a:custGeom>
          <a:noFill/>
          <a:ln w="93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49840" y="6438960"/>
            <a:ext cx="1650960" cy="152280"/>
          </a:xfrm>
          <a:custGeom>
            <a:avLst/>
            <a:gdLst/>
            <a:ahLst/>
            <a:rect l="l" t="t" r="r" b="b"/>
            <a:pathLst>
              <a:path w="1040" h="96">
                <a:moveTo>
                  <a:pt x="912" y="0"/>
                </a:moveTo>
                <a:cubicBezTo>
                  <a:pt x="963" y="1"/>
                  <a:pt x="1015" y="3"/>
                  <a:pt x="1008" y="16"/>
                </a:cubicBezTo>
                <a:cubicBezTo>
                  <a:pt x="1001" y="29"/>
                  <a:pt x="1040" y="67"/>
                  <a:pt x="872" y="80"/>
                </a:cubicBezTo>
                <a:cubicBezTo>
                  <a:pt x="704" y="93"/>
                  <a:pt x="147" y="93"/>
                  <a:pt x="0" y="9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5626080"/>
            <a:ext cx="2147760" cy="279360"/>
          </a:xfrm>
          <a:custGeom>
            <a:avLst/>
            <a:gdLst/>
            <a:ahLst/>
            <a:rect l="l" t="t" r="r" b="b"/>
            <a:pathLst>
              <a:path w="1353" h="176">
                <a:moveTo>
                  <a:pt x="1120" y="176"/>
                </a:moveTo>
                <a:cubicBezTo>
                  <a:pt x="1236" y="141"/>
                  <a:pt x="1353" y="107"/>
                  <a:pt x="1208" y="88"/>
                </a:cubicBezTo>
                <a:cubicBezTo>
                  <a:pt x="1063" y="69"/>
                  <a:pt x="449" y="79"/>
                  <a:pt x="248" y="64"/>
                </a:cubicBezTo>
                <a:cubicBezTo>
                  <a:pt x="47" y="49"/>
                  <a:pt x="23" y="24"/>
                  <a:pt x="0" y="0"/>
                </a:cubicBezTo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2240" y="5624640"/>
            <a:ext cx="22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(40204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3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(40205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2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55560" y="6183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2F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80760" y="6450120"/>
            <a:ext cx="14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65760" y="4394160"/>
            <a:ext cx="863640" cy="33012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1920" y="473724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Ph.Addr.=DS*10H+SI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2000" y="4724280"/>
            <a:ext cx="2502000" cy="4194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8" idx="5"/>
            <a:endCxn id="120" idx="2"/>
          </p:cNvCxnSpPr>
          <p:nvPr/>
        </p:nvCxnSpPr>
        <p:spPr>
          <a:xfrm flipH="1" rot="16200000">
            <a:off x="6443640" y="4735080"/>
            <a:ext cx="257760" cy="140400"/>
          </a:xfrm>
          <a:prstGeom prst="curvedConnector2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graphicFrame>
        <p:nvGraphicFramePr>
          <p:cNvPr id="122" name=""/>
          <p:cNvGraphicFramePr/>
          <p:nvPr/>
        </p:nvGraphicFramePr>
        <p:xfrm>
          <a:off x="2882880" y="3568680"/>
          <a:ext cx="1676520" cy="3162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2880" y="3568680"/>
                    <a:ext cx="16765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882880" y="3568680"/>
          <a:ext cx="1676520" cy="31622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2880" y="3568680"/>
                    <a:ext cx="16765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882880" y="3568680"/>
          <a:ext cx="1676520" cy="31622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82880" y="3568680"/>
                    <a:ext cx="16765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882880" y="3568680"/>
          <a:ext cx="1676520" cy="31622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82880" y="3568680"/>
                    <a:ext cx="16765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051440" y="5499000"/>
            <a:ext cx="342720" cy="52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44720" y="6006960"/>
            <a:ext cx="4572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1" idx="5"/>
            <a:endCxn id="130" idx="3"/>
          </p:cNvCxnSpPr>
          <p:nvPr/>
        </p:nvCxnSpPr>
        <p:spPr>
          <a:xfrm flipH="1" flipV="1" rot="5400000">
            <a:off x="3544560" y="5633640"/>
            <a:ext cx="248400" cy="867600"/>
          </a:xfrm>
          <a:prstGeom prst="curvedConnector5">
            <a:avLst>
              <a:gd name="adj1" fmla="val -23076"/>
              <a:gd name="adj2" fmla="val 49979"/>
              <a:gd name="adj3" fmla="val -230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7045200" y="7113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CK= LIFO list  in memory, increasing toward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77080" y="36828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SHA and POPA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2000" y="771480"/>
          <a:ext cx="6829200" cy="206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771480"/>
                    <a:ext cx="682920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086600" y="774720"/>
          <a:ext cx="1943280" cy="1930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774720"/>
                    <a:ext cx="194328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9680" y="3060720"/>
            <a:ext cx="141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=032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=08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=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0F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=</a:t>
            </a: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EED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X=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CCB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X=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A9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=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08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=6655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=4433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=221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46800" y="3591000"/>
            <a:ext cx="95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60680" y="621648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A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70280" y="3517920"/>
          <a:ext cx="1231920" cy="3340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0280" y="3517920"/>
                    <a:ext cx="1231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165320" y="334008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SHA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9080" y="657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33480" y="563868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92440" y="3670200"/>
            <a:ext cx="21600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606840"/>
            <a:ext cx="1244520" cy="63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6"/>
            <a:endCxn id="146" idx="0"/>
          </p:cNvCxnSpPr>
          <p:nvPr/>
        </p:nvCxnSpPr>
        <p:spPr>
          <a:xfrm>
            <a:off x="1244520" y="3924000"/>
            <a:ext cx="1385280" cy="26550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 flipH="1">
            <a:off x="4533840" y="3657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33840" y="65912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4400" y="3112920"/>
            <a:ext cx="5651640" cy="925560"/>
          </a:xfrm>
          <a:custGeom>
            <a:avLst/>
            <a:gdLst/>
            <a:ahLst/>
            <a:rect l="l" t="t" r="r" b="b"/>
            <a:pathLst>
              <a:path w="3560" h="1071">
                <a:moveTo>
                  <a:pt x="2743" y="1071"/>
                </a:moveTo>
                <a:cubicBezTo>
                  <a:pt x="3044" y="923"/>
                  <a:pt x="3346" y="776"/>
                  <a:pt x="3407" y="655"/>
                </a:cubicBezTo>
                <a:cubicBezTo>
                  <a:pt x="3468" y="534"/>
                  <a:pt x="3560" y="450"/>
                  <a:pt x="3111" y="343"/>
                </a:cubicBezTo>
                <a:cubicBezTo>
                  <a:pt x="2662" y="236"/>
                  <a:pt x="1220" y="30"/>
                  <a:pt x="711" y="15"/>
                </a:cubicBezTo>
                <a:cubicBezTo>
                  <a:pt x="202" y="0"/>
                  <a:pt x="110" y="150"/>
                  <a:pt x="55" y="255"/>
                </a:cubicBezTo>
                <a:cubicBezTo>
                  <a:pt x="0" y="360"/>
                  <a:pt x="191" y="503"/>
                  <a:pt x="383" y="647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49840" y="5816520"/>
            <a:ext cx="1676520" cy="774720"/>
          </a:xfrm>
          <a:custGeom>
            <a:avLst/>
            <a:gdLst/>
            <a:ahLst/>
            <a:rect l="l" t="t" r="r" b="b"/>
            <a:pathLst>
              <a:path w="1040" h="96">
                <a:moveTo>
                  <a:pt x="912" y="0"/>
                </a:moveTo>
                <a:cubicBezTo>
                  <a:pt x="963" y="1"/>
                  <a:pt x="1015" y="3"/>
                  <a:pt x="1008" y="16"/>
                </a:cubicBezTo>
                <a:cubicBezTo>
                  <a:pt x="1001" y="29"/>
                  <a:pt x="1040" y="67"/>
                  <a:pt x="872" y="80"/>
                </a:cubicBezTo>
                <a:cubicBezTo>
                  <a:pt x="704" y="93"/>
                  <a:pt x="147" y="93"/>
                  <a:pt x="0" y="9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882880" y="3213000"/>
          <a:ext cx="1676520" cy="364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2880" y="3213000"/>
                    <a:ext cx="167652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536840" y="4216320"/>
            <a:ext cx="0" cy="2044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095560" y="4215960"/>
            <a:ext cx="0" cy="2019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9920" y="343080"/>
            <a:ext cx="73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SHF, PUSHFD, POPF and POPFD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2000" y="771480"/>
          <a:ext cx="6788160" cy="20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771480"/>
                    <a:ext cx="678816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7086600" y="774720"/>
          <a:ext cx="1943280" cy="72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774720"/>
                    <a:ext cx="19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92120" y="3301920"/>
            <a:ext cx="804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not mandatory that a value pushed onto stack from a register (memory location) to be popped in the same register (memory locatio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it is a usual way to do so, using a sequence of PUSH instructions at a point in program, and a corresponding reversed sequence of POP instructions l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rrect handling of the stack is the programmer’s responsi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, INT and RET affect stack al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2160" y="68580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79360" y="1130400"/>
          <a:ext cx="4711680" cy="55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130400"/>
                    <a:ext cx="4711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4120" y="1168560"/>
          <a:ext cx="3386160" cy="50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168560"/>
                    <a:ext cx="3386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113000" y="1765440"/>
            <a:ext cx="23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X=01F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0160" y="1739880"/>
            <a:ext cx="27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A by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read in AL from input port at address 00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3280" y="2603520"/>
            <a:ext cx="30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A wo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read in AX from input port at address 01FF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346720" y="2044440"/>
            <a:ext cx="115560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5960" y="2616120"/>
            <a:ext cx="8128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2000" y="1803240"/>
            <a:ext cx="38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port address can be expressed direct (8 bits) or register indirect using DX (16 bi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14080" y="3530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66760" y="3975120"/>
          <a:ext cx="4711680" cy="557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760" y="3975120"/>
                    <a:ext cx="4711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321160" y="4013280"/>
          <a:ext cx="3299040" cy="49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21160" y="4013280"/>
                    <a:ext cx="329904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744720" y="4686480"/>
            <a:ext cx="23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X=01F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X,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30H,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927680" y="4902120"/>
            <a:ext cx="152388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40280" y="5537160"/>
            <a:ext cx="119376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9400" y="4648320"/>
            <a:ext cx="3498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port address can be expressed direct (8 bits) or register indirect using DX (16 bi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urce is always the accumulator. A byte can be output using AL, a word using AX or a double word using E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5240" y="2635200"/>
            <a:ext cx="534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stination is always the accumulator. A byte can be input using AL, a word using AX, or a double word using E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10160" y="4559400"/>
            <a:ext cx="273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A by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written from AL at output port at address 01FF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83280" y="5575320"/>
            <a:ext cx="30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A wo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written from AX at output port at address 00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6 Data transfe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62520" y="495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2520" y="955800"/>
          <a:ext cx="8778960" cy="105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955800"/>
                    <a:ext cx="87789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90440" y="1955880"/>
          <a:ext cx="3386160" cy="50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440" y="1955880"/>
                    <a:ext cx="3386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62000" y="2438280"/>
            <a:ext cx="89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port address is always expressed register indirect using DX (16 bi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14440" y="35305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S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44440" y="5160960"/>
          <a:ext cx="3494160" cy="477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440" y="5160960"/>
                    <a:ext cx="3494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49400" y="5638680"/>
            <a:ext cx="89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port address is always expressed register indirect using DX (16 bi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urce is the memory location addressed by [E]SI. A byte, a word or a double word can be output. After output, [E]SI is automatically incremented (or decremented - depending on processor’s direction flag DF) by 1, 2 or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6733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stination is the memory location addressed by ES:[E]DI. A byte, a word or a double word can be input. After input, [E]DI is automatically incremented (or decremented - depending on processor’s direction flag DF) by 1, 2 or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4440" y="3952800"/>
          <a:ext cx="8848800" cy="1046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4440" y="3952800"/>
                    <a:ext cx="88488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01:22:26Z</dcterms:created>
  <dc:creator>EECS</dc:creator>
  <dc:description/>
  <dc:language>en-US</dc:language>
  <cp:lastModifiedBy>Лъчезар Георгиев</cp:lastModifiedBy>
  <dcterms:modified xsi:type="dcterms:W3CDTF">2019-10-23T10:31:51Z</dcterms:modified>
  <cp:revision>40</cp:revision>
  <dc:subject/>
  <dc:title>No Slide Title</dc:title>
</cp:coreProperties>
</file>