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787-8E1C-4987-80DF-F9DE2C5F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FB0-ADBC-435D-BD7B-ED6A9AEB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E1E-3372-4F2D-BEBE-85F57AA0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8E2-8C61-4DAD-A7BB-FDA69DE1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32F-3A63-4871-8B29-A7FD380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0BD-DA13-439B-BE90-348E430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5B7-4EE2-4694-BD32-2F93C3D9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DF1-92DF-4C14-9F81-F41A585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FAA-4C2D-4D17-A886-AD34A140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ABD-55CD-4193-A868-C09090F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007-2D54-40D4-8A7E-F3AB6AF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5F9-3166-42E9-B64E-E0763B51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4EB-B5DD-4DB8-84BF-5C6DA810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1440" y="49536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XCHG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7840" y="914400"/>
          <a:ext cx="8051760" cy="5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914400"/>
                    <a:ext cx="80517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0840" y="1528920"/>
          <a:ext cx="2744640" cy="122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840" y="1528920"/>
                    <a:ext cx="27446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057480" y="1447920"/>
            <a:ext cx="18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 AX=1234H, BX=567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CHG AX,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555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execution of XCHG, BX=1234H, AX=5678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18284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8120" y="3086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SWAP instruction (486+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8120" y="3505320"/>
          <a:ext cx="8052120" cy="552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" y="3505320"/>
                    <a:ext cx="8052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38240" y="4122720"/>
          <a:ext cx="1428480" cy="565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8240" y="4122720"/>
                    <a:ext cx="14284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133720" y="4572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for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5100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fter execution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SWAP E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5029200"/>
          <a:ext cx="2448000" cy="228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5029200"/>
                    <a:ext cx="2448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495680" y="5029200"/>
          <a:ext cx="2448000" cy="22860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5029200"/>
                    <a:ext cx="2448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657600" y="5257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32" y="48"/>
                  <a:pt x="264" y="96"/>
                  <a:pt x="384" y="96"/>
                </a:cubicBezTo>
                <a:cubicBezTo>
                  <a:pt x="504" y="96"/>
                  <a:pt x="612" y="48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5257800"/>
            <a:ext cx="2361960" cy="304920"/>
          </a:xfrm>
          <a:custGeom>
            <a:avLst/>
            <a:gdLst/>
            <a:ahLst/>
            <a:rect l="l" t="t" r="r" b="b"/>
            <a:pathLst>
              <a:path w="1488" h="192">
                <a:moveTo>
                  <a:pt x="0" y="0"/>
                </a:moveTo>
                <a:cubicBezTo>
                  <a:pt x="260" y="96"/>
                  <a:pt x="520" y="192"/>
                  <a:pt x="768" y="192"/>
                </a:cubicBezTo>
                <a:cubicBezTo>
                  <a:pt x="1016" y="192"/>
                  <a:pt x="1252" y="96"/>
                  <a:pt x="14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5257800"/>
            <a:ext cx="3505320" cy="457200"/>
          </a:xfrm>
          <a:custGeom>
            <a:avLst/>
            <a:gdLst/>
            <a:ahLst/>
            <a:rect l="l" t="t" r="r" b="b"/>
            <a:pathLst>
              <a:path w="2208" h="288">
                <a:moveTo>
                  <a:pt x="0" y="0"/>
                </a:moveTo>
                <a:cubicBezTo>
                  <a:pt x="392" y="144"/>
                  <a:pt x="784" y="288"/>
                  <a:pt x="1152" y="288"/>
                </a:cubicBezTo>
                <a:cubicBezTo>
                  <a:pt x="1520" y="288"/>
                  <a:pt x="1864" y="144"/>
                  <a:pt x="220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257800"/>
            <a:ext cx="4800600" cy="609480"/>
          </a:xfrm>
          <a:custGeom>
            <a:avLst/>
            <a:gdLst/>
            <a:ahLst/>
            <a:rect l="l" t="t" r="r" b="b"/>
            <a:pathLst>
              <a:path w="3024" h="384">
                <a:moveTo>
                  <a:pt x="0" y="0"/>
                </a:moveTo>
                <a:cubicBezTo>
                  <a:pt x="516" y="192"/>
                  <a:pt x="1032" y="384"/>
                  <a:pt x="1536" y="384"/>
                </a:cubicBezTo>
                <a:cubicBezTo>
                  <a:pt x="2040" y="384"/>
                  <a:pt x="2532" y="192"/>
                  <a:pt x="30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2520" y="33526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EA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3809880"/>
          <a:ext cx="8310600" cy="49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809880"/>
                    <a:ext cx="8310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280" y="4383000"/>
          <a:ext cx="6140520" cy="47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83000"/>
                    <a:ext cx="6140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9360" y="483876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SI, [200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83876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cond operand specifies the memory location at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o val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loaded in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482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 SI, [200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54165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cond operand specifies the memory location at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o the content of memory locations at addres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loaded in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76520" y="5067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600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453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SI, [DI+BX+5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64389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1025H is loaded into 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05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 (BX=20H, DI=1000H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6667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67920" y="4572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XLAT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914400"/>
          <a:ext cx="8104320" cy="49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914400"/>
                    <a:ext cx="81043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63440" y="1490760"/>
          <a:ext cx="5802480" cy="514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440" y="1490760"/>
                    <a:ext cx="58024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4400" y="1943280"/>
            <a:ext cx="26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 BX=200H, AL=4, DS=100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(1204H)=55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23623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XLAT, AL=55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90720" y="2666880"/>
            <a:ext cx="2971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1120" y="38088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DS, LES, LFS, LGS, LSS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320" y="762120"/>
          <a:ext cx="73152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2120"/>
                    <a:ext cx="7315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467480" y="762120"/>
          <a:ext cx="160020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762120"/>
                    <a:ext cx="16002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52280" y="320040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DS SI, [200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3230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tent of memor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loaded in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he content of memor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2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3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loaded in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828800" y="3460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320" y="3809880"/>
          <a:ext cx="7315200" cy="2438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809880"/>
                    <a:ext cx="73152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6186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SS ESP,FWORD PTR NEW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6216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tent of memory from address NEWSTACK to NEWSTACK+5 is loaded into ESP and 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6200" y="6446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467480" y="3809880"/>
          <a:ext cx="1600200" cy="1676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3809880"/>
                    <a:ext cx="16002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er directives BYTE PTR, WORD PT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WORD PTR, FWORD PTR, OFFSET, SEG and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1520" y="1219320"/>
            <a:ext cx="81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TE 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byte pointer =&gt; the operand is a byte at the specified address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0080" y="1538280"/>
            <a:ext cx="84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 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word pointer =&gt; the operand is a word at the specified address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73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WORD 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double word pointer =&gt; the operand is a double word at the specified address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5131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WORD 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ar word pointer =&gt; the operand is a far word pointer at the specified address in memory (the four bytes at lower addresses specifying the offset and the other two bytes specifying the segme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1520" y="3900600"/>
            <a:ext cx="92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define far word =&gt; reserves memory space and define such a far word pointer (similar to 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32100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operand in memory was defined using DB, DW, DD or DF, the directives above are usele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8640" y="434340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=&gt; the operand the offset of the specified address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4040" y="4662360"/>
            <a:ext cx="85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segment  =&gt; the operand the value of the segment used to declare the specifi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952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 WORD PTR [SI]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983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16-bit value 5 is loaded into memory at the address specified b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S: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19520" y="521316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500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 DX,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 DX, OFFSET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55627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ame effect , but MOV instruction is faster and sho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 AX, SEG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 DS,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0818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 the segment used when declared data MESSAGE, and load its value in DS (in two ste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6172200"/>
            <a:ext cx="75960" cy="380880"/>
          </a:xfrm>
          <a:custGeom>
            <a:avLst/>
            <a:gdLst>
              <a:gd name="textAreaLeft" fmla="*/ 0 w 75960"/>
              <a:gd name="textAreaRight" fmla="*/ 27360 w 75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23:37:45Z</dcterms:created>
  <dc:creator>EECS</dc:creator>
  <dc:description/>
  <dc:language>en-US</dc:language>
  <cp:lastModifiedBy>Лъчезар Георгиев</cp:lastModifiedBy>
  <cp:lastPrinted>1999-09-13T05:52:17Z</cp:lastPrinted>
  <dcterms:modified xsi:type="dcterms:W3CDTF">2019-10-23T10:15:34Z</dcterms:modified>
  <cp:revision>29</cp:revision>
  <dc:subject/>
  <dc:title>No Slide Title</dc:title>
</cp:coreProperties>
</file>