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D99-FCE6-4C76-8C22-18FBBFCB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FC9-7E59-41F6-85A0-F3A9136B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0FD-290C-44CE-AF99-FF9C0277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279-A07D-4B18-A725-32D57675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CCB-D331-4AD0-AD89-C1AED948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9BF-4041-4C0F-8987-C204569C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42F-E2D5-4574-AB0A-A72AF313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452-A807-475E-AC89-F953B766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0A3-EAC8-44D5-8542-6ACF1201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C3F-5533-4079-B5AF-9CE1F2AF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8B8-B8FC-4516-8E87-1AB2690E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EB3-45F4-4FD4-BFBF-C8A42969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F7FF-7379-482E-B0BB-F171E9E0F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8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65040" y="472428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70320" y="4586400"/>
            <a:ext cx="31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0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0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86160" y="600552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after ADC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  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7080" y="368280"/>
            <a:ext cx="69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tion instructions: ADD, ADC, INC ,AAA, D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2160" y="5438880"/>
            <a:ext cx="11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H=29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=48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=69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80520" y="5400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79080" y="56181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B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79080" y="51814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, 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9080" y="58374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,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78720" y="649116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6633"/>
                </a:solidFill>
                <a:latin typeface="Times New Roman"/>
              </a:rPr>
              <a:t>B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2000" y="771480"/>
          <a:ext cx="8575560" cy="216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771480"/>
                    <a:ext cx="857556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139680" y="3162240"/>
            <a:ext cx="2755800" cy="2032200"/>
            <a:chOff x="139680" y="3162240"/>
            <a:chExt cx="2755800" cy="2032200"/>
          </a:xfrm>
        </p:grpSpPr>
        <p:graphicFrame>
          <p:nvGraphicFramePr>
            <p:cNvPr id="55" name=""/>
            <p:cNvGraphicFramePr/>
            <p:nvPr/>
          </p:nvGraphicFramePr>
          <p:xfrm>
            <a:off x="139680" y="3505320"/>
            <a:ext cx="2755800" cy="16891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9680" y="3505320"/>
                      <a:ext cx="2755800" cy="16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903600" y="316224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, AD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959200" y="3200400"/>
            <a:ext cx="1104840" cy="1104840"/>
            <a:chOff x="2959200" y="3200400"/>
            <a:chExt cx="1104840" cy="1104840"/>
          </a:xfrm>
        </p:grpSpPr>
        <p:graphicFrame>
          <p:nvGraphicFramePr>
            <p:cNvPr id="59" name=""/>
            <p:cNvGraphicFramePr/>
            <p:nvPr/>
          </p:nvGraphicFramePr>
          <p:xfrm>
            <a:off x="2959200" y="3517920"/>
            <a:ext cx="1104840" cy="7873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59200" y="3517920"/>
                      <a:ext cx="11048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3183120" y="3200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85400" y="4330800"/>
            <a:ext cx="1284120" cy="850680"/>
            <a:chOff x="2885400" y="4330800"/>
            <a:chExt cx="1284120" cy="850680"/>
          </a:xfrm>
        </p:grpSpPr>
        <p:graphicFrame>
          <p:nvGraphicFramePr>
            <p:cNvPr id="63" name=""/>
            <p:cNvGraphicFramePr/>
            <p:nvPr/>
          </p:nvGraphicFramePr>
          <p:xfrm>
            <a:off x="2959200" y="4648320"/>
            <a:ext cx="1104840" cy="5331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59200" y="4648320"/>
                      <a:ext cx="110484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"/>
            <p:cNvSpPr/>
            <p:nvPr/>
          </p:nvSpPr>
          <p:spPr>
            <a:xfrm>
              <a:off x="2885400" y="433080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AA, D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269960" y="369576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0  1001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73560" y="390060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B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0 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73560" y="412920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after AD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1  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8040" y="4192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86160" y="481500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after DA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0001  0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80520" y="627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73200" y="518148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after clea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  0000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76800" y="544824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B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  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81120" y="571500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Fla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88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86160" y="647712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after DA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0011 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45240" y="3659040"/>
            <a:ext cx="228600" cy="15264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192" y="56"/>
                </a:moveTo>
                <a:cubicBezTo>
                  <a:pt x="160" y="28"/>
                  <a:pt x="128" y="0"/>
                  <a:pt x="96" y="8"/>
                </a:cubicBezTo>
                <a:cubicBezTo>
                  <a:pt x="64" y="16"/>
                  <a:pt x="32" y="60"/>
                  <a:pt x="0" y="10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40360" y="36720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59440" y="3659040"/>
            <a:ext cx="228600" cy="15264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192" y="56"/>
                </a:moveTo>
                <a:cubicBezTo>
                  <a:pt x="160" y="28"/>
                  <a:pt x="128" y="0"/>
                  <a:pt x="96" y="8"/>
                </a:cubicBezTo>
                <a:cubicBezTo>
                  <a:pt x="64" y="16"/>
                  <a:pt x="32" y="60"/>
                  <a:pt x="0" y="10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17320" y="336708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41911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8360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78720" y="605484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, 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4559400"/>
            <a:ext cx="533160" cy="16488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56"/>
                </a:moveTo>
                <a:cubicBezTo>
                  <a:pt x="4" y="28"/>
                  <a:pt x="8" y="0"/>
                  <a:pt x="48" y="8"/>
                </a:cubicBezTo>
                <a:cubicBezTo>
                  <a:pt x="88" y="16"/>
                  <a:pt x="164" y="60"/>
                  <a:pt x="240" y="104"/>
                </a:cubicBezTo>
              </a:path>
            </a:pathLst>
          </a:custGeom>
          <a:noFill/>
          <a:ln w="9360">
            <a:solidFill>
              <a:srgbClr val="cc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419720"/>
            <a:ext cx="1295280" cy="22860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0" y="192"/>
                </a:moveTo>
                <a:cubicBezTo>
                  <a:pt x="36" y="160"/>
                  <a:pt x="72" y="128"/>
                  <a:pt x="192" y="96"/>
                </a:cubicBezTo>
                <a:cubicBezTo>
                  <a:pt x="312" y="64"/>
                  <a:pt x="516" y="32"/>
                  <a:pt x="72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3629160"/>
            <a:ext cx="987480" cy="172800"/>
          </a:xfrm>
          <a:custGeom>
            <a:avLst/>
            <a:gdLst/>
            <a:ahLst/>
            <a:rect l="l" t="t" r="r" b="b"/>
            <a:pathLst>
              <a:path w="624" h="112">
                <a:moveTo>
                  <a:pt x="0" y="16"/>
                </a:moveTo>
                <a:cubicBezTo>
                  <a:pt x="68" y="8"/>
                  <a:pt x="136" y="0"/>
                  <a:pt x="240" y="16"/>
                </a:cubicBezTo>
                <a:cubicBezTo>
                  <a:pt x="344" y="32"/>
                  <a:pt x="484" y="72"/>
                  <a:pt x="624" y="1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3492360"/>
            <a:ext cx="1600200" cy="16524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04" y="60"/>
                  <a:pt x="408" y="16"/>
                  <a:pt x="576" y="8"/>
                </a:cubicBezTo>
                <a:cubicBezTo>
                  <a:pt x="744" y="0"/>
                  <a:pt x="876" y="28"/>
                  <a:pt x="1008" y="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9304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011&gt;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Times New Roman"/>
              </a:rPr>
              <a:t>AF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87720" y="50292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6324480"/>
            <a:ext cx="609840" cy="228600"/>
          </a:xfrm>
          <a:prstGeom prst="ellipse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6324480"/>
            <a:ext cx="685800" cy="2286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5400" y="55483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65040" y="533412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4960" y="6262560"/>
            <a:ext cx="31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0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0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6477120"/>
            <a:ext cx="152280" cy="15228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58672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F=0,0010&lt;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Times New Roman"/>
              </a:rPr>
              <a:t>1010&gt;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601992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83600" y="5943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6248520"/>
            <a:ext cx="914400" cy="75960"/>
          </a:xfrm>
          <a:custGeom>
            <a:avLst/>
            <a:gdLst/>
            <a:ahLst/>
            <a:rect l="l" t="t" r="r" b="b"/>
            <a:pathLst>
              <a:path w="576" h="48">
                <a:moveTo>
                  <a:pt x="0" y="48"/>
                </a:moveTo>
                <a:cubicBezTo>
                  <a:pt x="24" y="24"/>
                  <a:pt x="48" y="0"/>
                  <a:pt x="144" y="0"/>
                </a:cubicBezTo>
                <a:cubicBezTo>
                  <a:pt x="240" y="0"/>
                  <a:pt x="408" y="24"/>
                  <a:pt x="576" y="4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4440" y="595800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48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120" y="653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4520" y="649116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202360"/>
            <a:ext cx="106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6553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5920" y="4419720"/>
            <a:ext cx="596880" cy="457200"/>
          </a:xfrm>
          <a:custGeom>
            <a:avLst/>
            <a:gdLst/>
            <a:ahLst/>
            <a:rect l="l" t="t" r="r" b="b"/>
            <a:pathLst>
              <a:path w="376" h="288">
                <a:moveTo>
                  <a:pt x="240" y="0"/>
                </a:moveTo>
                <a:cubicBezTo>
                  <a:pt x="308" y="72"/>
                  <a:pt x="376" y="144"/>
                  <a:pt x="336" y="192"/>
                </a:cubicBezTo>
                <a:cubicBezTo>
                  <a:pt x="296" y="240"/>
                  <a:pt x="148" y="264"/>
                  <a:pt x="0" y="28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4648320"/>
            <a:ext cx="393840" cy="53316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0" y="0"/>
                </a:moveTo>
                <a:cubicBezTo>
                  <a:pt x="116" y="44"/>
                  <a:pt x="232" y="88"/>
                  <a:pt x="240" y="144"/>
                </a:cubicBezTo>
                <a:cubicBezTo>
                  <a:pt x="248" y="200"/>
                  <a:pt x="148" y="268"/>
                  <a:pt x="48" y="33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5562720"/>
            <a:ext cx="3049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70320" y="4586400"/>
            <a:ext cx="31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0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0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6160" y="600552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after SBB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 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3682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ion instructions: SUB, CMP, SBB, DEC, NEG, AAS,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2160" y="5438880"/>
            <a:ext cx="11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H=29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=48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=69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80520" y="5400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79080" y="56181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B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79080" y="51814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, 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79080" y="583740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,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78720" y="649116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6633"/>
                </a:solidFill>
                <a:latin typeface="Times New Roman"/>
              </a:rPr>
              <a:t>B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1520" y="762120"/>
          <a:ext cx="8848800" cy="245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762120"/>
                    <a:ext cx="88488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139680" y="3162240"/>
            <a:ext cx="2755800" cy="2032200"/>
            <a:chOff x="139680" y="3162240"/>
            <a:chExt cx="2755800" cy="2032200"/>
          </a:xfrm>
        </p:grpSpPr>
        <p:graphicFrame>
          <p:nvGraphicFramePr>
            <p:cNvPr id="122" name=""/>
            <p:cNvGraphicFramePr/>
            <p:nvPr/>
          </p:nvGraphicFramePr>
          <p:xfrm>
            <a:off x="139680" y="3505320"/>
            <a:ext cx="2755800" cy="16891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9680" y="3505320"/>
                      <a:ext cx="2755800" cy="16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902880" y="316224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B, SBB, C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96560" y="3200400"/>
            <a:ext cx="1223280" cy="1104840"/>
            <a:chOff x="2896560" y="3200400"/>
            <a:chExt cx="1223280" cy="1104840"/>
          </a:xfrm>
        </p:grpSpPr>
        <p:graphicFrame>
          <p:nvGraphicFramePr>
            <p:cNvPr id="126" name=""/>
            <p:cNvGraphicFramePr/>
            <p:nvPr/>
          </p:nvGraphicFramePr>
          <p:xfrm>
            <a:off x="2959200" y="3517920"/>
            <a:ext cx="1104840" cy="7873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59200" y="3517920"/>
                      <a:ext cx="11048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2896560" y="320040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C, N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885400" y="4330800"/>
            <a:ext cx="1207800" cy="850680"/>
            <a:chOff x="2885400" y="4330800"/>
            <a:chExt cx="1207800" cy="850680"/>
          </a:xfrm>
        </p:grpSpPr>
        <p:graphicFrame>
          <p:nvGraphicFramePr>
            <p:cNvPr id="130" name=""/>
            <p:cNvGraphicFramePr/>
            <p:nvPr/>
          </p:nvGraphicFramePr>
          <p:xfrm>
            <a:off x="2959200" y="4648320"/>
            <a:ext cx="1104840" cy="5331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59200" y="4648320"/>
                      <a:ext cx="110484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2885400" y="433080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AS, 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270320" y="369576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0  1000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73560" y="390060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B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0  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73560" y="412920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after SUB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1  1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88040" y="4192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86160" y="481500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after D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0111  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80520" y="6273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518148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after up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  1001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76800" y="544824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 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81120" y="571500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Fla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88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6160" y="647712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after D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0010 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45240" y="3659040"/>
            <a:ext cx="228600" cy="15264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192" y="56"/>
                </a:moveTo>
                <a:cubicBezTo>
                  <a:pt x="160" y="28"/>
                  <a:pt x="128" y="0"/>
                  <a:pt x="96" y="8"/>
                </a:cubicBezTo>
                <a:cubicBezTo>
                  <a:pt x="64" y="16"/>
                  <a:pt x="32" y="60"/>
                  <a:pt x="0" y="10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40360" y="36720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59440" y="3659040"/>
            <a:ext cx="228600" cy="15264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192" y="56"/>
                </a:moveTo>
                <a:cubicBezTo>
                  <a:pt x="160" y="28"/>
                  <a:pt x="128" y="0"/>
                  <a:pt x="96" y="8"/>
                </a:cubicBezTo>
                <a:cubicBezTo>
                  <a:pt x="64" y="16"/>
                  <a:pt x="32" y="60"/>
                  <a:pt x="0" y="10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17320" y="336708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83240" y="4114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79080" y="60548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B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,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2920" y="4559400"/>
            <a:ext cx="380880" cy="164880"/>
          </a:xfrm>
          <a:custGeom>
            <a:avLst/>
            <a:gdLst/>
            <a:ahLst/>
            <a:rect l="l" t="t" r="r" b="b"/>
            <a:pathLst>
              <a:path w="240" h="104">
                <a:moveTo>
                  <a:pt x="0" y="56"/>
                </a:moveTo>
                <a:cubicBezTo>
                  <a:pt x="4" y="28"/>
                  <a:pt x="8" y="0"/>
                  <a:pt x="48" y="8"/>
                </a:cubicBezTo>
                <a:cubicBezTo>
                  <a:pt x="88" y="16"/>
                  <a:pt x="164" y="60"/>
                  <a:pt x="240" y="104"/>
                </a:cubicBezTo>
              </a:path>
            </a:pathLst>
          </a:custGeom>
          <a:noFill/>
          <a:ln w="9360">
            <a:solidFill>
              <a:srgbClr val="cc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4419720"/>
            <a:ext cx="1143000" cy="22860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0" y="192"/>
                </a:moveTo>
                <a:cubicBezTo>
                  <a:pt x="36" y="160"/>
                  <a:pt x="72" y="128"/>
                  <a:pt x="192" y="96"/>
                </a:cubicBezTo>
                <a:cubicBezTo>
                  <a:pt x="312" y="64"/>
                  <a:pt x="516" y="32"/>
                  <a:pt x="72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3629160"/>
            <a:ext cx="987480" cy="172800"/>
          </a:xfrm>
          <a:custGeom>
            <a:avLst/>
            <a:gdLst/>
            <a:ahLst/>
            <a:rect l="l" t="t" r="r" b="b"/>
            <a:pathLst>
              <a:path w="624" h="112">
                <a:moveTo>
                  <a:pt x="0" y="16"/>
                </a:moveTo>
                <a:cubicBezTo>
                  <a:pt x="68" y="8"/>
                  <a:pt x="136" y="0"/>
                  <a:pt x="240" y="16"/>
                </a:cubicBezTo>
                <a:cubicBezTo>
                  <a:pt x="344" y="32"/>
                  <a:pt x="484" y="72"/>
                  <a:pt x="624" y="1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3492360"/>
            <a:ext cx="1600200" cy="16524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04" y="60"/>
                  <a:pt x="408" y="16"/>
                  <a:pt x="576" y="8"/>
                </a:cubicBezTo>
                <a:cubicBezTo>
                  <a:pt x="744" y="0"/>
                  <a:pt x="876" y="28"/>
                  <a:pt x="1008" y="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9304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101&gt;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Times New Roman"/>
              </a:rPr>
              <a:t>AF,1111&gt;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7720" y="50292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65040" y="472428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6324480"/>
            <a:ext cx="609840" cy="228600"/>
          </a:xfrm>
          <a:prstGeom prst="ellipse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6324480"/>
            <a:ext cx="685800" cy="2286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65400" y="55483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65040" y="533412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14960" y="6262560"/>
            <a:ext cx="31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0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6477120"/>
            <a:ext cx="152280" cy="15228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58672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F=0,0010&lt;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Times New Roman"/>
              </a:rPr>
              <a:t>AF=0,1000&lt;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601992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83240" y="59436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6248520"/>
            <a:ext cx="914400" cy="75960"/>
          </a:xfrm>
          <a:custGeom>
            <a:avLst/>
            <a:gdLst/>
            <a:ahLst/>
            <a:rect l="l" t="t" r="r" b="b"/>
            <a:pathLst>
              <a:path w="576" h="48">
                <a:moveTo>
                  <a:pt x="0" y="48"/>
                </a:moveTo>
                <a:cubicBezTo>
                  <a:pt x="24" y="24"/>
                  <a:pt x="48" y="0"/>
                  <a:pt x="144" y="0"/>
                </a:cubicBezTo>
                <a:cubicBezTo>
                  <a:pt x="240" y="0"/>
                  <a:pt x="408" y="24"/>
                  <a:pt x="576" y="4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5160" y="595800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48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8120" y="653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4520" y="649116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28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49320" y="5202360"/>
            <a:ext cx="11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CD sub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6553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191120"/>
            <a:ext cx="15228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3276720"/>
            <a:ext cx="2057400" cy="990360"/>
          </a:xfrm>
          <a:custGeom>
            <a:avLst/>
            <a:gdLst/>
            <a:ahLst/>
            <a:rect l="l" t="t" r="r" b="b"/>
            <a:pathLst>
              <a:path w="1296" h="624">
                <a:moveTo>
                  <a:pt x="336" y="624"/>
                </a:moveTo>
                <a:cubicBezTo>
                  <a:pt x="168" y="528"/>
                  <a:pt x="0" y="432"/>
                  <a:pt x="48" y="336"/>
                </a:cubicBezTo>
                <a:cubicBezTo>
                  <a:pt x="96" y="240"/>
                  <a:pt x="416" y="96"/>
                  <a:pt x="624" y="48"/>
                </a:cubicBezTo>
                <a:cubicBezTo>
                  <a:pt x="832" y="0"/>
                  <a:pt x="1064" y="24"/>
                  <a:pt x="1296" y="4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17680" y="3124080"/>
            <a:ext cx="7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F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4343400"/>
            <a:ext cx="698760" cy="609480"/>
          </a:xfrm>
          <a:custGeom>
            <a:avLst/>
            <a:gdLst/>
            <a:ahLst/>
            <a:rect l="l" t="t" r="r" b="b"/>
            <a:pathLst>
              <a:path w="440" h="384">
                <a:moveTo>
                  <a:pt x="336" y="0"/>
                </a:moveTo>
                <a:cubicBezTo>
                  <a:pt x="388" y="68"/>
                  <a:pt x="440" y="136"/>
                  <a:pt x="432" y="192"/>
                </a:cubicBezTo>
                <a:cubicBezTo>
                  <a:pt x="424" y="248"/>
                  <a:pt x="360" y="304"/>
                  <a:pt x="288" y="336"/>
                </a:cubicBezTo>
                <a:cubicBezTo>
                  <a:pt x="216" y="368"/>
                  <a:pt x="108" y="376"/>
                  <a:pt x="0" y="38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4648320"/>
            <a:ext cx="698760" cy="533160"/>
          </a:xfrm>
          <a:custGeom>
            <a:avLst/>
            <a:gdLst/>
            <a:ahLst/>
            <a:rect l="l" t="t" r="r" b="b"/>
            <a:pathLst>
              <a:path w="440" h="336">
                <a:moveTo>
                  <a:pt x="336" y="0"/>
                </a:moveTo>
                <a:cubicBezTo>
                  <a:pt x="388" y="68"/>
                  <a:pt x="440" y="136"/>
                  <a:pt x="384" y="192"/>
                </a:cubicBezTo>
                <a:cubicBezTo>
                  <a:pt x="328" y="248"/>
                  <a:pt x="164" y="292"/>
                  <a:pt x="0" y="33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5486400"/>
            <a:ext cx="2286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500"/>
                            </p:stCondLst>
                            <p:childTnLst>
                              <p:par>
                                <p:cTn id="5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238880" y="2666880"/>
            <a:ext cx="19051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ed and unsigned multipli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39680" y="2629080"/>
          <a:ext cx="4203720" cy="193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629080"/>
                    <a:ext cx="420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52280" y="4965840"/>
          <a:ext cx="3848400" cy="1206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965840"/>
                    <a:ext cx="38484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0880" y="36828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ication instructions: MUL, IMUL, 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75000" y="4343400"/>
            <a:ext cx="216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 = FFH = -1(2’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 = FEH = -2(2’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7520" y="5657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U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93960" y="62625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02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3800" y="5657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8520" y="62625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2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62000" y="771480"/>
          <a:ext cx="8802720" cy="148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000" y="771480"/>
                    <a:ext cx="880272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582560" y="22860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, IM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457880" y="4660920"/>
          <a:ext cx="1104840" cy="533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57880" y="4660920"/>
                    <a:ext cx="11048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701600" y="4343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720" y="462276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UL additional, 3 ope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425840" y="2629080"/>
          <a:ext cx="2641680" cy="1688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5840" y="2629080"/>
                    <a:ext cx="2641680" cy="16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310640" y="228600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UL additional, 2 ope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257800" y="487692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629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320" y="5622840"/>
            <a:ext cx="16761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ying AL by CX (signed value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39680" y="3465360"/>
          <a:ext cx="3975120" cy="21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3465360"/>
                    <a:ext cx="397512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8580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 Arithmetic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360" y="36828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 &amp; conversion: DIV, IDIV, AAD, CBW/CWDE, CWD, C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840" y="5715000"/>
            <a:ext cx="244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 = FFH = -1(2’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X = FFFEH = -2(2’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24960" y="61815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U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840" y="5881680"/>
            <a:ext cx="39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byte FFH to word FFFFH in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2920" y="5881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618660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ying words AX and 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3600" y="771480"/>
          <a:ext cx="900288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771480"/>
                    <a:ext cx="900288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582920" y="314496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, I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378560" y="3440160"/>
          <a:ext cx="1105200" cy="533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78560" y="3440160"/>
                    <a:ext cx="1105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622280" y="31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432320" y="3465360"/>
          <a:ext cx="2273400" cy="497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32320" y="3465360"/>
                    <a:ext cx="22734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163840" y="315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6105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15000" y="6410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419720" y="4302000"/>
          <a:ext cx="2286000" cy="482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4302000"/>
                    <a:ext cx="22860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149800" y="39844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W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427640" y="5157720"/>
          <a:ext cx="2590560" cy="48420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7640" y="5157720"/>
                    <a:ext cx="25905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4129200" y="4807080"/>
            <a:ext cx="31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WDE (same opcode as CBW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5715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781680" y="4303800"/>
          <a:ext cx="2336760" cy="496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1680" y="4303800"/>
                    <a:ext cx="23367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7588800" y="3994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3 Logical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20000" y="36828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, OR, XOR, TEST,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65240" y="774720"/>
          <a:ext cx="8750160" cy="135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774720"/>
                    <a:ext cx="875016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142920" y="2209680"/>
            <a:ext cx="3179880" cy="1914480"/>
            <a:chOff x="142920" y="2209680"/>
            <a:chExt cx="3179880" cy="1914480"/>
          </a:xfrm>
        </p:grpSpPr>
        <p:graphicFrame>
          <p:nvGraphicFramePr>
            <p:cNvPr id="242" name=""/>
            <p:cNvGraphicFramePr/>
            <p:nvPr/>
          </p:nvGraphicFramePr>
          <p:xfrm>
            <a:off x="142920" y="2549520"/>
            <a:ext cx="3179880" cy="15746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2920" y="2549520"/>
                      <a:ext cx="3179880" cy="15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4" name=""/>
            <p:cNvSpPr/>
            <p:nvPr/>
          </p:nvSpPr>
          <p:spPr>
            <a:xfrm>
              <a:off x="603720" y="2209680"/>
              <a:ext cx="23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D, OR, XOR, T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619440" y="2209680"/>
            <a:ext cx="1104840" cy="1105200"/>
            <a:chOff x="3619440" y="2209680"/>
            <a:chExt cx="1104840" cy="1105200"/>
          </a:xfrm>
        </p:grpSpPr>
        <p:graphicFrame>
          <p:nvGraphicFramePr>
            <p:cNvPr id="246" name=""/>
            <p:cNvGraphicFramePr/>
            <p:nvPr/>
          </p:nvGraphicFramePr>
          <p:xfrm>
            <a:off x="3619440" y="2527200"/>
            <a:ext cx="1104840" cy="7876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19440" y="2527200"/>
                      <a:ext cx="11048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>
              <a:off x="3843720" y="2209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800600" y="2133720"/>
            <a:ext cx="17524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ce between AND and TE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000" y="220968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 = 25H = 0010 010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 = 55H = 0101 010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83520" y="327672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,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6280" y="368316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H=0000 010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; Z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; P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32920" y="327672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L,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65960" y="368316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H=0010 010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; Z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; P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486040" y="29718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838560" y="3124080"/>
            <a:ext cx="1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562200"/>
            <a:ext cx="19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3638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48400" y="44197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SF, B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20600" y="4853160"/>
          <a:ext cx="8871120" cy="785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600" y="4853160"/>
                    <a:ext cx="887112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28600" y="5943600"/>
          <a:ext cx="3289320" cy="7239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5943600"/>
                    <a:ext cx="3289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998640" y="5638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SF, B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5800" y="55627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X = 0000 0000 0111 1111 0000 0000 0000 0000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59040" y="60976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SF EBX, 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78920" y="60976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SR EBX, 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41680" y="633888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95760" y="633888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6477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64771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4764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3 Logical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70800" y="3682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T, BTC, BTS, B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5240" y="774720"/>
          <a:ext cx="8826480" cy="127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774720"/>
                    <a:ext cx="88264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39680" y="2552760"/>
          <a:ext cx="3289320" cy="125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680" y="2552760"/>
                    <a:ext cx="32893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02280" y="220968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, BTC, BTS, B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3920" y="3699000"/>
            <a:ext cx="472428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5555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AX=5555,C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AX=5555,CF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AX=5555,C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X,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B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AX=5155,CF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B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AX=5955,C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,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AX=5954,CF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4764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3 Logical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30800" y="3808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52280" y="812880"/>
          <a:ext cx="7696440" cy="85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12880"/>
                    <a:ext cx="76964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924680" y="825480"/>
          <a:ext cx="1028880" cy="787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825480"/>
                    <a:ext cx="1028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52280" y="1909800"/>
          <a:ext cx="8910720" cy="3119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909800"/>
                    <a:ext cx="891072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982440" y="5562720"/>
            <a:ext cx="70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rms 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grea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are used for comparisons of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igned integ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82440" y="5958000"/>
            <a:ext cx="75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rms 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b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e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are used for comparisons of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nsigned integ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00:04:49Z</dcterms:created>
  <dc:creator>EECS</dc:creator>
  <dc:description/>
  <dc:language>en-US</dc:language>
  <cp:lastModifiedBy>Лъчезар Георгиев</cp:lastModifiedBy>
  <dcterms:modified xsi:type="dcterms:W3CDTF">2019-10-23T12:11:48Z</dcterms:modified>
  <cp:revision>63</cp:revision>
  <dc:subject/>
  <dc:title>No Slide Title</dc:title>
</cp:coreProperties>
</file>