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1FB-4030-40B4-9553-B64BB101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D4B-080E-4B1F-8655-3AB7C1D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21D-4A3C-46BD-9A04-38E9720F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1A2-66E2-42E1-839E-7211A03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A89-7F01-4270-89B0-D8121548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7BC-FC39-4F75-B58B-25BBBCD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9D3-629F-463D-8450-36A18AC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C2D-71C0-4625-BB70-7E620602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DC1-9C56-4FC6-B1BE-2B9664C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3EF-CF75-4CD3-8D03-6F01B17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5D7-A39E-4EFC-8450-61B70C4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244-CFE2-4CAC-BFAD-A6AE821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8D1-A49A-4D25-9102-EFF6A5735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ing the Operands’ Size and Address and the String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680" y="838080"/>
            <a:ext cx="39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a data collection in mem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400" y="1157400"/>
            <a:ext cx="78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: bytes (8-bit), words (16-bit), or double-words (32-bi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619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OURCE 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</a:rPr>
              <a:t>DESTINATION STR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52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CURRENT ELEM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OURCE STR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pointed 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S:[E]S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CURRENT ELEM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</a:rPr>
              <a:t>DESTINATION STR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pointed 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</a:rPr>
              <a:t>ES:[E]D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TRING INSTRU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perates by default on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current ele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ource 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 the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</a:rPr>
              <a:t>Destination 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on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e of th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operand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need to be specif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String Instructions, unless thei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byte, word, double-word) has to be specified this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implified way to specify the operands’ size is to add suffix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Mnemonic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ing 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INSTRU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implied Index Registers (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[E]S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</a:rPr>
              <a:t>[E]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re automatically updated to point the next element in the string, which becomes the 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CURRENT ELLEME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nex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INSTRU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volving the same String. The update mean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Index Register content by byte count of the string element. (1 if the elements are bytes, 2 for word elements, and 4 if the elements are double-word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7200" y="4800600"/>
            <a:ext cx="91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IRE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pointer updating is imposed by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rection Flag) in FLAGS regis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]SI and/or [E]DI are incremented if DF=0, or decremented (if DF=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166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I+4*(-1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5486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String Instruction implying a double-word Destination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908000" y="5867280"/>
            <a:ext cx="149400" cy="8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62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I+(-1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095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String Instruction implying a byte Sourc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23880" y="62481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548496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ting Direction Fla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clear DF = auto-inc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set DF = auto-dec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61440" y="87480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1000" y="1290600"/>
          <a:ext cx="8991720" cy="9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90600"/>
                    <a:ext cx="89917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8000" y="2330280"/>
          <a:ext cx="3343320" cy="47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330280"/>
                    <a:ext cx="3343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492360" y="2276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s an element from the source string in the destination string. Increase or decrease (depending on DF) both [E]SI and [E]DI by the byte-count of the opera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61800" y="373392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MP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4280" y="4151160"/>
          <a:ext cx="9082080" cy="949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80" y="4151160"/>
                    <a:ext cx="9082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25280" y="5191200"/>
          <a:ext cx="3230640" cy="500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280" y="5191200"/>
                    <a:ext cx="3230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419640" y="514368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s the subtrac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S:[E]DI)-(DS:[E]SI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n’t st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result, bu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s fla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rdingly. Increase or decrease (depending on DF) both [E]SI and [E]DI by the byte-count of the opera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63240" y="49536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CA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4080" y="914400"/>
          <a:ext cx="8799480" cy="10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914400"/>
                    <a:ext cx="879948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1989000"/>
          <a:ext cx="2697120" cy="46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89000"/>
                    <a:ext cx="26971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95480" y="19051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s the subtrac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-(ES:[E]D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X-(ES:[E]DI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X-(ES:[E]DI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n’t st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result, bu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s fla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cordingly. Increase/decrease only [E]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1080" y="3141720"/>
          <a:ext cx="8781840" cy="100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080" y="3141720"/>
                    <a:ext cx="87818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8000" y="4221000"/>
          <a:ext cx="2941560" cy="462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4221000"/>
                    <a:ext cx="29415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032280" y="4159080"/>
            <a:ext cx="60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(move) in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tent of the memory location pointed 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DS:[E]S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Increase/decrease only [E]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0" y="274320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OD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4080" y="5151600"/>
          <a:ext cx="8818560" cy="10141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080" y="5151600"/>
                    <a:ext cx="88185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81080" y="6237360"/>
          <a:ext cx="2806560" cy="46188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1080" y="6237360"/>
                    <a:ext cx="2806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57480" y="614052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(move) the content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X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emory location pointed b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ES:[E]D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Increase/decrease only [E]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0" y="472428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2520" y="495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440" y="1955880"/>
          <a:ext cx="3386160" cy="50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955880"/>
                    <a:ext cx="338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2000" y="242100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port address is always expressed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4440" y="35305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5157720"/>
          <a:ext cx="3384720" cy="49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157720"/>
                    <a:ext cx="33847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49400" y="563868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port address is always expressed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urce is the memory location addressed by [E]SI. A byte, a word or a double word can be output. After output, [E]SI is automatically incremented (or decremented - depending on the direction flag DF) by 1, 2 or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6733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stination is the memory location addressed by ES:[E]DI. A byte, a word or a double word can be input. After input, [E]DI is automatically incremented (or decremented - depending on the direction flag DF) by 1, 2 or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914400"/>
          <a:ext cx="8713800" cy="1001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914400"/>
                    <a:ext cx="8713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2280" y="4114800"/>
          <a:ext cx="8925120" cy="9698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892512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2960" y="53352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P, REPE/REPZ, REPNE/REPNZ pre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5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string instruction acts on a single element in a source string and/or on a single element in the destination string. To operate on the whole source and/or destination string, a repetitive execution is needed. Loop and Jump instructions allow repeating of a group of instructions (a program sequence).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E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ix allow a single instruction to be repe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alue in [E]CX (before execution of the instruction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ix) specifies how many times the instruction is executed. (If [E]CX=0 befo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fix arrived, the instruction is skipped (not executed). Each iteration decrements [E]CX until it arises at 0. The repetition is stopped and the next instruction is execu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7672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eat while Equal) is identical 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eat while Zero) (Same code with two different mnemonics). Additional to REP, this instruction verifies ZF (Zero Flag in FLAGS) and stops repetition when ZF=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08400" y="287964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Decrementing [E]CX doesn’t affect any flag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528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REP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eat while Not Equal) is identical 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N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eat while Not Zero) (Same code with two different mnemonics). Additional to REP, this instruction verifies ZF (Zero Flag in FLAGS) and stops repetition when ZF=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429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327672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 that ZF is set every time an arithmetical or logical operation result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9840" y="389412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instructions (like CMPS, SCAS) set ZF if the operands a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79840" y="4511520"/>
            <a:ext cx="458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 repeats the instruction and decrements [E]C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imes, whe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initial content of [E]CX (at the end, [E]CX=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9840" y="540396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/REPZ repeats the instruction and decrements [E]CX until [E]CX=0 or ZF=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601992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NE/REPNZ repeats the instruction and decrements [E]CX until [E]CX=0 or ZF=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5680" y="306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71720" y="2727360"/>
            <a:ext cx="990000" cy="425160"/>
            <a:chOff x="1071720" y="2727360"/>
            <a:chExt cx="990000" cy="425160"/>
          </a:xfrm>
        </p:grpSpPr>
        <p:grpSp>
          <p:nvGrpSpPr>
            <p:cNvPr id="118" name=""/>
            <p:cNvGrpSpPr/>
            <p:nvPr/>
          </p:nvGrpSpPr>
          <p:grpSpPr>
            <a:xfrm>
              <a:off x="1071720" y="2727360"/>
              <a:ext cx="990000" cy="425160"/>
              <a:chOff x="1071720" y="2727360"/>
              <a:chExt cx="990000" cy="425160"/>
            </a:xfrm>
          </p:grpSpPr>
          <p:sp>
            <p:nvSpPr>
              <p:cNvPr id="119" name=""/>
              <p:cNvSpPr/>
              <p:nvPr/>
            </p:nvSpPr>
            <p:spPr>
              <a:xfrm>
                <a:off x="1071720" y="293976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07172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66720" y="293940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6672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194480" y="2805120"/>
              <a:ext cx="747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]CX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54120" y="31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1360" y="4129200"/>
            <a:ext cx="1957680" cy="173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1371600" cy="12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crement/ decrement [E]SI and/or [E]DI by 1, 2 or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684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572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54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8954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9984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940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5160" y="2590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240" y="62625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4280" y="1371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0520" y="3465360"/>
            <a:ext cx="1863000" cy="322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crement [E]CX by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04960" y="1371600"/>
            <a:ext cx="2286360" cy="5259240"/>
            <a:chOff x="3504960" y="1371600"/>
            <a:chExt cx="2286360" cy="5259240"/>
          </a:xfrm>
        </p:grpSpPr>
        <p:grpSp>
          <p:nvGrpSpPr>
            <p:cNvPr id="142" name=""/>
            <p:cNvGrpSpPr/>
            <p:nvPr/>
          </p:nvGrpSpPr>
          <p:grpSpPr>
            <a:xfrm>
              <a:off x="4119480" y="2027160"/>
              <a:ext cx="990000" cy="425160"/>
              <a:chOff x="4119480" y="2027160"/>
              <a:chExt cx="990000" cy="425160"/>
            </a:xfrm>
          </p:grpSpPr>
          <p:sp>
            <p:nvSpPr>
              <p:cNvPr id="143" name=""/>
              <p:cNvSpPr/>
              <p:nvPr/>
            </p:nvSpPr>
            <p:spPr>
              <a:xfrm>
                <a:off x="4119480" y="223956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119480" y="20271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614480" y="223920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14480" y="20271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268160" y="2057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F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119480" y="2727360"/>
              <a:ext cx="990000" cy="425160"/>
              <a:chOff x="4119480" y="2727360"/>
              <a:chExt cx="990000" cy="425160"/>
            </a:xfrm>
          </p:grpSpPr>
          <p:sp>
            <p:nvSpPr>
              <p:cNvPr id="149" name=""/>
              <p:cNvSpPr/>
              <p:nvPr/>
            </p:nvSpPr>
            <p:spPr>
              <a:xfrm>
                <a:off x="4119480" y="293976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411948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4614480" y="293940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1448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250880" y="2805120"/>
              <a:ext cx="7293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[E]CX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02240" y="24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02240" y="31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69120" y="4129200"/>
              <a:ext cx="1957680" cy="173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ute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2520" y="4572000"/>
              <a:ext cx="1371600" cy="123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crement/ decrement [E]SI and/or [E]DI by 1, 2 or 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83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504960" y="609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505320" y="19047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1905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1600" y="1905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3062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2096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647960" y="6248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624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05520" y="294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5520" y="2239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3440" y="23623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3280" y="2590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70360" y="62625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32040" y="137160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vious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8280" y="3465360"/>
              <a:ext cx="186300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ecrement [E]CX by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52720" y="1371600"/>
            <a:ext cx="2286360" cy="5259240"/>
            <a:chOff x="6552720" y="1371600"/>
            <a:chExt cx="2286360" cy="5259240"/>
          </a:xfrm>
        </p:grpSpPr>
        <p:grpSp>
          <p:nvGrpSpPr>
            <p:cNvPr id="178" name=""/>
            <p:cNvGrpSpPr/>
            <p:nvPr/>
          </p:nvGrpSpPr>
          <p:grpSpPr>
            <a:xfrm>
              <a:off x="7167600" y="2027160"/>
              <a:ext cx="990000" cy="425160"/>
              <a:chOff x="7167600" y="2027160"/>
              <a:chExt cx="990000" cy="425160"/>
            </a:xfrm>
          </p:grpSpPr>
          <p:sp>
            <p:nvSpPr>
              <p:cNvPr id="179" name=""/>
              <p:cNvSpPr/>
              <p:nvPr/>
            </p:nvSpPr>
            <p:spPr>
              <a:xfrm>
                <a:off x="7167600" y="223956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167600" y="20271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662600" y="223920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62600" y="20271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316280" y="205740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F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167600" y="2727360"/>
              <a:ext cx="990000" cy="425160"/>
              <a:chOff x="7167600" y="2727360"/>
              <a:chExt cx="990000" cy="425160"/>
            </a:xfrm>
          </p:grpSpPr>
          <p:sp>
            <p:nvSpPr>
              <p:cNvPr id="185" name=""/>
              <p:cNvSpPr/>
              <p:nvPr/>
            </p:nvSpPr>
            <p:spPr>
              <a:xfrm>
                <a:off x="7167600" y="293976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16760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662600" y="2939400"/>
                <a:ext cx="49500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62600" y="2727360"/>
                <a:ext cx="49500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298640" y="2805120"/>
              <a:ext cx="7293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[E]CX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50000" y="24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0000" y="31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17240" y="4129200"/>
              <a:ext cx="1957680" cy="1739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ute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572000"/>
              <a:ext cx="1371600" cy="123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crement/ decrement [E]SI and/or [E]DI by 1, 2 or 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9608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552720" y="609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553080" y="19047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53080" y="1905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9608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1560" y="2376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560" y="3062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39080" y="22096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695720" y="6248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96080" y="624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53280" y="294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53280" y="2239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31040" y="1905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31040" y="2590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18480" y="62625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0160" y="137160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vious 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96080" y="167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46400" y="3465360"/>
              <a:ext cx="186300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ecrement [E]CX by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012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5541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2960" y="53352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P, REPE/REPZ, REPNE/REPNZ pre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5960" y="528480"/>
            <a:ext cx="758520" cy="4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533520"/>
            <a:ext cx="1904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33520"/>
            <a:ext cx="2438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05120" y="990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990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9907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457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Data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`SHOPPER `,0D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declare a byt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9 DUP (?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 OFFSET STRS,SEG 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build in memory (Data Segment) the 4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W OFFSET STRD,SEG 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pointer to address STRS and ST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8195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,SEG A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ing DS for the segment of AST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,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auto-increment SI and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,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ing 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,A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e DS and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,A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e ES and DI (ES=DS in ex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D,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move an element from STRS to ST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S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move next element from STRS to ST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 MOVS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move next 7 elements from STRS to ST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5318280"/>
            <a:ext cx="2971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77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14120" y="619452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menting DI and SI bu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rementing 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851440"/>
            <a:ext cx="6098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1563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60320" y="6346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menting 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Data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`SHOPPER `,0D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declare a byt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 `SHOPPING`,0D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1826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auto-increment SI and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, 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ing 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, SEG 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e DS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, 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(in two st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, OFFSET S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...and 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, SEG 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initialize 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, 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(ES=DS in ex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, OFFSET ST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…and 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PS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compare first elements of STRS and ST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 CMPS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compare the next 8 bytes of the strings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7 String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48:03Z</dcterms:created>
  <dc:creator>EECS</dc:creator>
  <dc:description/>
  <dc:language>en-US</dc:language>
  <cp:lastModifiedBy>Лъчезар Георгиев</cp:lastModifiedBy>
  <dcterms:modified xsi:type="dcterms:W3CDTF">2019-10-21T13:27:32Z</dcterms:modified>
  <cp:revision>43</cp:revision>
  <dc:subject/>
  <dc:title>No Slide Title</dc:title>
</cp:coreProperties>
</file>